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B1CA-44AB-4103-9DC4-34067BF1F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22BD-374A-421B-A981-972C63568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F9B1-B1E7-4081-8BE5-D58E50E633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AA3B-E926-49ED-A5CE-D0689C22C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55C-94BD-4784-9B5A-3147FA9D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800-8DF8-4B54-909C-D4480419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4E1A0-83F6-4B2E-8EEA-18DF2C0A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131A4-6526-4B32-A9A4-32EAF7C6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33EB8-4A76-40B3-AE75-F1FBDAA3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A4E45-16BF-44FB-AA31-7760A5A1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026C6-DD3A-4A7A-AC0F-1429373F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390EE-539E-4974-9D50-D0B4F2B8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88DBB-8F54-4B0D-A0D2-F0ABD1AD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583CA-5514-45E0-94A1-EEC39F2F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49E0A-6453-4E9B-948C-C7F85F04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D108A-A715-4BFB-8DDB-C97BC391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A3C-7B6A-489B-A928-658D033A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7B37D-5F2D-4F8C-8ACF-06C17CF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D70BF-36BA-41EB-B2CD-7670B6E7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C5A4B-9962-4176-B6D8-F245A0E8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8FDBE-B8EE-416A-ABA0-216D5BE9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7EB68-098F-470C-B9D5-08F70AE6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C186E-9D87-42E3-A024-2216707E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75313-2A88-4957-A90F-EB4E346C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DA41B-F95F-4C0E-848D-B7745907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8749D-AB89-46FB-BE9D-DEEE9502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19299-6E3F-49B4-B156-67E33A3E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AA1-3FEF-4533-9937-4748230D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DE65F-CEB6-46AE-A5C8-FE30284D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124F2-CC7E-4169-AE50-4A945573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2968D-8C21-4861-863B-9510BD8A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6AC1E-33B2-47E0-A5FA-159304EB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86BEE-70AF-4697-82C8-0FF1B44E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790EB-37D5-42F2-81A9-2ABEE733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E9209-16CA-4C75-BC4B-C9FBBD6C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2E236-6F3F-429B-9EF7-CA5B0C80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4AF28-1832-4C48-B490-68C635CA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EE8C3-5CFA-4480-97BA-BCBCBD03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B211-D6CE-4FB1-AACA-2EEA8C8B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06A40-E434-496F-B8CE-805EA994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9A61A-5EA8-46AB-A8B6-FAD72948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95615-4911-4EAB-8AE4-976F2A2D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9B813-908F-4F98-926C-7378C593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798CA-2D46-4415-8CA7-D894D649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E4625-2D10-486A-B9FF-EE24D267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8A78D-0D61-4AFA-995E-466ECC97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18A6A-37B5-4960-A723-416DE23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A360C-D950-46BB-9C50-361DD270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8C294-67BD-4E99-9AA5-4B1A1BB9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FCB4-2D9F-4842-BA37-4265DE6F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2A929-52FA-4E8B-B110-6553B361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22F17-369A-4A46-B7BB-B07D214F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9AB1E-8016-4FA4-B1B5-D6508E40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CD588-296D-4197-B162-1C262D6D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8E9EF-12F1-4502-AB7C-9DDBA256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9BB8-688D-412C-BF97-391AF0B4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62E9-DBC3-4830-B308-EC97E6BC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5D76-52AC-4D32-853F-7A684EBC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778F-116C-4267-90CB-48980BB2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3378-B0B6-43DF-9948-23622628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CA3-9E56-4B03-9FC7-F712666A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D7E5-F5F9-4A11-B74F-862C151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193E-0E96-431A-99F5-CBEBB038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716A-B8E9-47B0-B6A9-0CD2373B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CE5D-DFC3-4A52-9478-BDFAF8C1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8B2D-9344-42FD-90CF-85BF4298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BF90-D259-4445-8C1E-5B85B7A3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4F7D-7410-44BB-8C0F-B4716609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BDC9-9C4D-4597-BBE1-F9B34875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2531-3663-471B-B2D1-224E0B34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09E96-94C9-47F5-82BE-96DEBAFD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794-76E9-49A4-B10F-E8DEB5F0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845D-A613-49A8-9D92-600C1AD5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E8D7-AA9E-4672-BF68-344D6ABA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DA3E-6752-4B0A-B6AC-DECA01C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8F3B-1A46-473C-BC6A-12061A80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E014-B8B3-4B27-B370-8FB457E7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BCBD-684D-4CBF-9C10-A1875845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70CD-6291-4529-A6A1-632FD7D9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7D861-8734-4B36-B849-DB16B5AF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30E0D-B6FC-4541-BF4B-23866827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4533-EBA1-4433-8F2B-5F6FFB2B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9BE-0BAA-4EE7-8CF7-00A0131E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4B1F3-0A69-419D-9662-169D1854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3124D-D751-47BB-A18F-C82C058A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7AB0-5BCE-465F-BB56-A7E12AA2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78F0-36C0-4B0B-9226-D95B6662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B1B1B-9CFB-440D-9BB2-989315E2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75B38-9C59-4A9F-9AFF-13C35A47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8682-BE6C-415F-A97F-62985286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29CF-BD5A-4426-9D41-715BD800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8CB77-325A-4668-96D9-0C0C5A59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7CDE0-679E-4F28-B328-D4AA7FDD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A65-43EB-4014-8D23-5937969B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109F4-4495-46F2-8837-910DDB02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11EB5-6E11-48C5-BB62-30E11017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222A4-6912-48FC-B593-E4C98809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ABE36-391E-4FE1-B03C-8CA09C63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A53C2-3602-4B5D-A0A0-8F23C2FC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BF4F9-DC20-4878-98DA-CEF9FB5E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AC3E-5B84-477A-AB3A-2ADDFDB1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B8980-0AE7-409C-AD02-26796EFB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776D6-BAB6-4D2E-B0BE-3EBDD0A4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29E50-3BF5-4306-BA57-0B3010F8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105-C4B1-457E-BB9A-30208ADA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DE5CF-A8C8-4E6F-86E2-6E65A16F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3BFD3-F278-4512-B77E-5B65F615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A779A-1DF7-4452-88B4-67000352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850B7-B802-4B02-87D6-3975565B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8FA7C-5D26-4570-8591-A0471CB6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2AFA1-3A74-45E4-BAE3-0B217598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34C1B-3053-4DE9-8A58-EFB18D5F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2DEEC-EABB-4E6E-A049-BF72FCB0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935E1-A2DC-44AB-B7F7-DD540F9D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A8965-7859-4233-9DE4-6D00128E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867-E274-401F-A5D5-2FFAAF60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9D30C-8BE9-40F0-ACF1-87316296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E79BB-620B-40BB-9E7D-B98936A0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DF991-FC25-4E5F-A1E0-0016EB4F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49D5E-D2BC-47BA-95C5-75C16FC8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881FC-5927-4680-93D3-14F42EEF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0695C-738A-462E-B1FE-28076799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B64CC-4030-45E9-87DA-2126ABCA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A088E-EAF1-4C21-A260-71B88271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63201-27BE-45B6-AB3F-B9C7A425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7D605-4169-478E-9478-50BAF62A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E3F-C82F-4EA1-BEE8-0D2AA3FB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5DE23-ED55-48E9-BC62-41291929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BB96F-306C-4AD0-BB19-F5EEEB03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56B71-0360-4747-A5A5-66B20E86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BF3A-43FB-4AD2-8B38-A09D927B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D884C-6A70-4397-8A56-89BB2447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98B4A-12CD-42AF-BB28-41A80D11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6DE9F-2F11-4D71-99DB-28110645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384DC-483F-4474-BBEF-6F61EF93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B7D38-1183-4ABA-87C5-7BAA71D4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C79B5-6F04-471C-B5E9-C5FF275A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47D-703D-4B43-85CF-11BED990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4EB02-FFA8-4463-A421-63CE321B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760F9-8ED7-443A-83BA-1B92CAFD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98392-2904-48EC-87DA-5572BF77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30BA-888B-4318-AE5E-97BF1F0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38625-0C01-46B4-9B69-C416E5F9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95F9D-E63C-4BED-B6AA-47764169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6EA9-6E9F-4F71-8A70-6F80711D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24A69-31BC-4B7F-B634-68DAB8B3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80598-94BF-490B-8E2D-E6100ECD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399DE-A025-4585-88A9-41BEA32B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82A8-E921-41B9-A6D2-D285EA4A261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ED6F-7AAB-40FA-B9DC-AAFA537C5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298E-4597-444E-978D-943DE0C85D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A35F-9CF1-46ED-A898-3ED954551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E9A5-33C0-4FE1-92FF-2379B7F4D74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28E5-541D-4CAD-84AF-E2186DAC6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109C-56DD-4136-9690-4CBA71020EF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4B92-C61B-4152-866F-EC9B2AC21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EBAF-2CEF-4D5B-AB5D-4B3AF14BB5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8519-DAAF-4D5E-A67E-38B24F9D0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DA13-3B90-4A1B-939A-2C76EDF678F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52E5-042F-434E-A7E9-F09BF8505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C15D-0069-4BB4-86EA-56AF1CA193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9902-C233-4CDF-8F84-7265C1623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1728-0039-4D5E-A77A-A401EC31A78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C424-742C-431E-96F3-335BA98D1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4844-B047-4445-9B95-81E4FB20F2F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9109-ADA9-4C6A-B4EC-A636DB66B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C82D-E5B7-4923-8A78-0EB50BE1B0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D97E-EE34-4F05-8170-5E913E1F8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961E-6D97-4C47-A92B-9A29F83E54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F2B3-8D45-4B2C-B34F-DBDC82B3D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8CD8-8709-4A30-970F-B007FCB56F3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0CA0-943D-428A-97BC-2706F2F60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image" Target="../media/image1.png"/><Relationship Id="rId3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22"/>
          <p:cNvSpPr/>
          <p:nvPr/>
        </p:nvSpPr>
        <p:spPr>
          <a:xfrm>
            <a:off x="6159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Jeopordy Theme.wav" descr=""/>
          <p:cNvPicPr/>
          <p:nvPr/>
        </p:nvPicPr>
        <p:blipFill>
          <a:blip r:embed="rId3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94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085040" y="1752480"/>
            <a:ext cx="725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ve African American 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to vo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Jeopordy Theme.wav" descr=""/>
          <p:cNvPicPr/>
          <p:nvPr/>
        </p:nvPicPr>
        <p:blipFill>
          <a:blip r:embed="rId1"/>
          <a:stretch/>
        </p:blipFill>
        <p:spPr>
          <a:xfrm>
            <a:off x="4572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2094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435240" y="365760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7" descr="C:\Users\ssanders\Desktop\Jeopardy\images-3.jpg"/>
          <p:cNvPicPr/>
          <p:nvPr/>
        </p:nvPicPr>
        <p:blipFill>
          <a:blip r:embed="rId1"/>
          <a:stretch/>
        </p:blipFill>
        <p:spPr>
          <a:xfrm>
            <a:off x="4724280" y="304920"/>
            <a:ext cx="3353040" cy="32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58040" y="3124080"/>
            <a:ext cx="68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ich President made it a law that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were free from slave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2094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764000" y="3429000"/>
            <a:ext cx="571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braham Lincol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C:\Users\ssanders\Desktop\Jeopardy\images-4.jpg"/>
          <p:cNvPicPr/>
          <p:nvPr/>
        </p:nvPicPr>
        <p:blipFill>
          <a:blip r:embed="rId1"/>
          <a:stretch/>
        </p:blipFill>
        <p:spPr>
          <a:xfrm>
            <a:off x="3429000" y="762120"/>
            <a:ext cx="2371680" cy="26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889920" y="3200400"/>
            <a:ext cx="663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o was the Af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who gave speeches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, gav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od to soldiers, and traveled around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the tru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Jeopordy Theme.wav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2094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686600" y="3581280"/>
            <a:ext cx="485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ojourner Tru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7" descr="C:\Users\ssanders\Desktop\Jeopardy\images-5.jpg"/>
          <p:cNvPicPr/>
          <p:nvPr/>
        </p:nvPicPr>
        <p:blipFill>
          <a:blip r:embed="rId1"/>
          <a:stretch/>
        </p:blipFill>
        <p:spPr>
          <a:xfrm>
            <a:off x="3352680" y="533520"/>
            <a:ext cx="2124360" cy="301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895320" y="3124080"/>
            <a:ext cx="745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ich African American traveled over 500 miles to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mpton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he wanted to be able to re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Jeopordy Theme.wav" descr=""/>
          <p:cNvPicPr/>
          <p:nvPr/>
        </p:nvPicPr>
        <p:blipFill>
          <a:blip r:embed="rId1"/>
          <a:stretch/>
        </p:blipFill>
        <p:spPr>
          <a:xfrm>
            <a:off x="4495680" y="4800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2094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-27360" y="3505320"/>
            <a:ext cx="65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ooker T. Washingt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7" descr="C:\Users\ssanders\Desktop\Jeopardy\images-6.jpg"/>
          <p:cNvPicPr/>
          <p:nvPr/>
        </p:nvPicPr>
        <p:blipFill>
          <a:blip r:embed="rId1"/>
          <a:stretch/>
        </p:blipFill>
        <p:spPr>
          <a:xfrm>
            <a:off x="3962520" y="304920"/>
            <a:ext cx="2238120" cy="331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80880" y="1447920"/>
            <a:ext cx="744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o wrote in a newspaper about freedom and was the first African American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n for public office in the United Stat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Jeopordy Theme.wav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2094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2122200" y="3352680"/>
            <a:ext cx="40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Ida B. W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085840" cy="260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27720" y="3124080"/>
            <a:ext cx="867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What is the important document that wa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787 as the basic rule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count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Jeopordy Theme.wav" descr=""/>
          <p:cNvPicPr/>
          <p:nvPr/>
        </p:nvPicPr>
        <p:blipFill>
          <a:blip r:embed="rId1"/>
          <a:stretch/>
        </p:blipFill>
        <p:spPr>
          <a:xfrm>
            <a:off x="41911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094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-990720" y="762120"/>
            <a:ext cx="1112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o was the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started a school for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rls which later became a colle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elped President Roosevelt during the G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?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2094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990720" y="236232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Mary McLeod Bethu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6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200320" cy="321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575640" y="3124080"/>
            <a:ext cx="87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are separated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given equal rights it is called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Jeopordy Theme.wav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2094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609480" y="3657600"/>
            <a:ext cx="651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egregat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7" descr="C:\Users\ssanders\Desktop\Jeopardy\images-12.jpg"/>
          <p:cNvPicPr/>
          <p:nvPr/>
        </p:nvPicPr>
        <p:blipFill>
          <a:blip r:embed="rId1"/>
          <a:stretch/>
        </p:blipFill>
        <p:spPr>
          <a:xfrm>
            <a:off x="2819520" y="685800"/>
            <a:ext cx="2733480" cy="296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-38160" y="2743200"/>
            <a:ext cx="585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An amendment i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Jeopordy Theme.wav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2094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452880" y="3505320"/>
            <a:ext cx="637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n addition or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7" descr=""/>
          <p:cNvPicPr/>
          <p:nvPr/>
        </p:nvPicPr>
        <p:blipFill>
          <a:blip r:embed="rId1"/>
          <a:stretch/>
        </p:blipFill>
        <p:spPr>
          <a:xfrm>
            <a:off x="2590920" y="0"/>
            <a:ext cx="428616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609480" y="20574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can’t see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ho they really are. It is called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Jeopordy Theme.wav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2094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914400" y="3200400"/>
            <a:ext cx="670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97920" y="3124080"/>
            <a:ext cx="431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Prejud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7" descr="C:\Users\ssanders\Desktop\Jeopardy\images-9.jpg"/>
          <p:cNvPicPr/>
          <p:nvPr/>
        </p:nvPicPr>
        <p:blipFill>
          <a:blip r:embed="rId1"/>
          <a:stretch/>
        </p:blipFill>
        <p:spPr>
          <a:xfrm>
            <a:off x="2743200" y="914400"/>
            <a:ext cx="3371760" cy="22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60240" y="914400"/>
            <a:ext cx="787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The Freedmen’s Bureau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rted after slaves were set free because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Jeopordy Theme.wav" descr=""/>
          <p:cNvPicPr/>
          <p:nvPr/>
        </p:nvPicPr>
        <p:blipFill>
          <a:blip r:embed="rId1"/>
          <a:stretch/>
        </p:blipFill>
        <p:spPr>
          <a:xfrm>
            <a:off x="4419720" y="4191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2094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523880" y="129528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y helped blacks find jobs, homes, schools, family members, et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6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3857760" cy="281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026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028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30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31"/>
          <p:cNvSpPr/>
          <p:nvPr/>
        </p:nvSpPr>
        <p:spPr>
          <a:xfrm>
            <a:off x="317520" y="320040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 Constit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8" descr="C:\Users\ssanders\Desktop\Jeopardy\images-10.jpg"/>
          <p:cNvPicPr/>
          <p:nvPr/>
        </p:nvPicPr>
        <p:blipFill>
          <a:blip r:embed="rId1"/>
          <a:stretch/>
        </p:blipFill>
        <p:spPr>
          <a:xfrm>
            <a:off x="4572000" y="0"/>
            <a:ext cx="3772080" cy="351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1135080" y="685800"/>
            <a:ext cx="762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a group of African Americans went into a segregated place of business to protest peace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Jeopordy Theme.wav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2094" fill="hold"/>
                                        <p:tgtEl>
                                          <p:spTgt spid="6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5220720" y="4691160"/>
            <a:ext cx="270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“sit-in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8" descr="C:\Users\ssanders\Desktop\Jeopardy\CI010B.jpg"/>
          <p:cNvPicPr/>
          <p:nvPr/>
        </p:nvPicPr>
        <p:blipFill>
          <a:blip r:embed="rId1"/>
          <a:stretch/>
        </p:blipFill>
        <p:spPr>
          <a:xfrm>
            <a:off x="838080" y="457200"/>
            <a:ext cx="3810240" cy="37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380880" y="3048120"/>
            <a:ext cx="8483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 or False?  When Addy missed some worms, the overseer punished her by dropping the worms down her back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Jeopordy Theme.wav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2094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151640" y="34290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8" descr="C:\Users\ssanders\Desktop\Jeopardy\images-15.jpg"/>
          <p:cNvPicPr/>
          <p:nvPr/>
        </p:nvPicPr>
        <p:blipFill>
          <a:blip r:embed="rId1"/>
          <a:stretch/>
        </p:blipFill>
        <p:spPr>
          <a:xfrm>
            <a:off x="5257800" y="2133720"/>
            <a:ext cx="2314440" cy="214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898560" y="487692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43760" y="304812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dy overheard her par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spering abou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Jeopordy Theme.wav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2094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779120" y="3200400"/>
            <a:ext cx="580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aping the plan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7" descr="C:\Users\ssanders\Desktop\Jeopardy\escape.jpg"/>
          <p:cNvPicPr/>
          <p:nvPr/>
        </p:nvPicPr>
        <p:blipFill>
          <a:blip r:embed="rId1"/>
          <a:stretch/>
        </p:blipFill>
        <p:spPr>
          <a:xfrm>
            <a:off x="6172200" y="304920"/>
            <a:ext cx="2436840" cy="30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477360" y="3276720"/>
            <a:ext cx="620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as Harriet cry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church bas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Jeopordy Theme.wav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2094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165680" y="3429000"/>
            <a:ext cx="495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 uncle had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7" descr="C:\Users\ssanders\Desktop\Jeopardy\alone,black,and,white,depressed,girl,hair,sad-c12869d819b7ff5009a894d6b3bfc265_m.jpg"/>
          <p:cNvPicPr/>
          <p:nvPr/>
        </p:nvPicPr>
        <p:blipFill>
          <a:blip r:embed="rId1"/>
          <a:stretch/>
        </p:blipFill>
        <p:spPr>
          <a:xfrm>
            <a:off x="3429000" y="53352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8000" y="2743200"/>
            <a:ext cx="77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id Addy read at chur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New Year’s Ev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Jeopordy Theme.wav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2094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1817280" y="2895480"/>
            <a:ext cx="553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mancip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cla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Picture 8" descr="C:\Users\ssanders\Desktop\Jeopardy\The_Emancipation_Proclamation.jpg"/>
          <p:cNvPicPr/>
          <p:nvPr/>
        </p:nvPicPr>
        <p:blipFill>
          <a:blip r:embed="rId1"/>
          <a:stretch/>
        </p:blipFill>
        <p:spPr>
          <a:xfrm>
            <a:off x="304920" y="304920"/>
            <a:ext cx="2404800" cy="327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506160" y="2362320"/>
            <a:ext cx="82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at were the first 10 Amendments to the Constitution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2094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274760" y="342900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re Momma and Ad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ing their money to bu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Jeopordy Theme.wav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2094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738000" y="3809880"/>
            <a:ext cx="150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7" descr="C:\Users\ssanders\Desktop\Jeopardy\images-14.jpg"/>
          <p:cNvPicPr/>
          <p:nvPr/>
        </p:nvPicPr>
        <p:blipFill>
          <a:blip r:embed="rId1"/>
          <a:stretch/>
        </p:blipFill>
        <p:spPr>
          <a:xfrm>
            <a:off x="3962520" y="1143000"/>
            <a:ext cx="3238560" cy="3211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1089360" y="3505320"/>
            <a:ext cx="690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name for a sl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ster wa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Jeopordy Theme.wav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2094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647280" y="3276720"/>
            <a:ext cx="243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Mar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8" descr="C:\Users\ssanders\Desktop\Jeopardy\master_slave_mid.jpg"/>
          <p:cNvPicPr/>
          <p:nvPr/>
        </p:nvPicPr>
        <p:blipFill>
          <a:blip r:embed="rId1"/>
          <a:stretch/>
        </p:blipFill>
        <p:spPr>
          <a:xfrm>
            <a:off x="3809880" y="849240"/>
            <a:ext cx="3686400" cy="22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336600" y="1828800"/>
            <a:ext cx="8807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at woman was an ex-slave who, after escaping, returned at least 13 times to help slaves escape on the Underground Railroad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Jeopordy Theme.wav" descr=""/>
          <p:cNvPicPr/>
          <p:nvPr/>
        </p:nvPicPr>
        <p:blipFill>
          <a:blip r:embed="rId1"/>
          <a:stretch/>
        </p:blipFill>
        <p:spPr>
          <a:xfrm>
            <a:off x="4419720" y="4876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2094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922760" y="3276720"/>
            <a:ext cx="409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1"/>
          <a:stretch/>
        </p:blipFill>
        <p:spPr>
          <a:xfrm>
            <a:off x="380880" y="0"/>
            <a:ext cx="3048120" cy="34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1563120" y="297180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year did the Civil War start and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Jeopordy Theme.wav" descr=""/>
          <p:cNvPicPr/>
          <p:nvPr/>
        </p:nvPicPr>
        <p:blipFill>
          <a:blip r:embed="rId1"/>
          <a:stretch/>
        </p:blipFill>
        <p:spPr>
          <a:xfrm>
            <a:off x="4495680" y="4038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32094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2771280" y="3200400"/>
            <a:ext cx="282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861-18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7" descr=""/>
          <p:cNvPicPr/>
          <p:nvPr/>
        </p:nvPicPr>
        <p:blipFill>
          <a:blip r:embed="rId1"/>
          <a:stretch/>
        </p:blipFill>
        <p:spPr>
          <a:xfrm>
            <a:off x="1600200" y="0"/>
            <a:ext cx="5429160" cy="332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493640" y="2895480"/>
            <a:ext cx="55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 called when you protest by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or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Jeopordy Theme.wav" descr=""/>
          <p:cNvPicPr/>
          <p:nvPr/>
        </p:nvPicPr>
        <p:blipFill>
          <a:blip r:embed="rId1"/>
          <a:stretch/>
        </p:blipFill>
        <p:spPr>
          <a:xfrm>
            <a:off x="4267080" y="3733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2094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1483560" y="32004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The Montgomery Bus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7" descr=""/>
          <p:cNvPicPr/>
          <p:nvPr/>
        </p:nvPicPr>
        <p:blipFill>
          <a:blip r:embed="rId1"/>
          <a:stretch/>
        </p:blipFill>
        <p:spPr>
          <a:xfrm>
            <a:off x="2895480" y="838080"/>
            <a:ext cx="2905200" cy="20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698840" y="3581280"/>
            <a:ext cx="426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ill of Righ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8" descr="C:\Users\ssanders\Desktop\Jeopardy\images-1.jpg"/>
          <p:cNvPicPr/>
          <p:nvPr/>
        </p:nvPicPr>
        <p:blipFill>
          <a:blip r:embed="rId1"/>
          <a:stretch/>
        </p:blipFill>
        <p:spPr>
          <a:xfrm>
            <a:off x="2514600" y="228600"/>
            <a:ext cx="3809880" cy="345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474840" y="1447920"/>
            <a:ext cx="8897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Rosa Parks, Martin Luther King Jr. and many other African Americans stood 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ir rights. They led what mov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Jeopordy Theme.wav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2094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630440" y="3581280"/>
            <a:ext cx="609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vil Rights Mov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7" descr="C:\Users\ssanders\Desktop\Jeopardy\51YYFA37PXL._SL500_AA240_.jpg"/>
          <p:cNvPicPr/>
          <p:nvPr/>
        </p:nvPicPr>
        <p:blipFill>
          <a:blip r:embed="rId1"/>
          <a:stretch/>
        </p:blipFill>
        <p:spPr>
          <a:xfrm>
            <a:off x="3505320" y="457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514800" y="2895480"/>
            <a:ext cx="7023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 g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laves their freed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094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63680" y="350532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8" descr="C:\Users\ssanders\Desktop\Jeopardy\images-2.jpg"/>
          <p:cNvPicPr/>
          <p:nvPr/>
        </p:nvPicPr>
        <p:blipFill>
          <a:blip r:embed="rId1"/>
          <a:stretch/>
        </p:blipFill>
        <p:spPr>
          <a:xfrm>
            <a:off x="5715000" y="685800"/>
            <a:ext cx="297180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395000" y="2895480"/>
            <a:ext cx="621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Laws that were passed to keep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from having the same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ites w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094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717920" y="2743200"/>
            <a:ext cx="495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Jim Crow La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7" descr="C:\Users\ssanders\Desktop\Jeopardy\jimcrowexample.jpg"/>
          <p:cNvPicPr/>
          <p:nvPr/>
        </p:nvPicPr>
        <p:blipFill>
          <a:blip r:embed="rId1"/>
          <a:stretch/>
        </p:blipFill>
        <p:spPr>
          <a:xfrm>
            <a:off x="2971800" y="3809880"/>
            <a:ext cx="3809880" cy="25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Teacher</cp:lastModifiedBy>
  <dcterms:modified xsi:type="dcterms:W3CDTF">2010-08-10T00:56:56Z</dcterms:modified>
  <cp:revision>109</cp:revision>
  <dc:subject/>
  <dc:title>Blank Jeopardy</dc:title>
</cp:coreProperties>
</file>