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0940-A2AB-41BC-B252-BF3537EAF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142A-3CD8-485C-AE19-0D75BB7B6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3CDD-7E52-4266-8842-F7D6EF4B9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A237-2A17-4D9E-8601-EE4AC9F3A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F36-0859-4346-9CA9-6C3AC691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657-AB07-4E93-83C2-A8312489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5C4DE-B56E-498E-AB66-289A2815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072AF-6C99-4C0D-AECF-2514FBA7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A648A-EE14-4734-8D6C-ACD5DA62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5FF4E-98F3-487F-B70F-3D7DD7BA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A5C26-5816-442D-9654-3A7A3539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58E39-DA9D-4B68-A26E-E79D8FC6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9AB7F-279F-467F-942E-A1C1EC93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C805A-1155-4A91-9C56-27A4C05C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556B7-38D7-4351-B1A0-5499D892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F6C85-B2D4-4C95-82DD-AAE94586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F87-AE70-4739-A146-96590860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17EED-3B7E-4A87-919F-3698E759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8F85D-F100-44FB-A20A-0BF9F240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0137E-1108-40CE-BFD5-55401831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986A8-1B2A-4AE5-A29B-D955FFB7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42BA3-0DD2-4624-8A1E-37FD3104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415E0-68B4-48C8-BF1D-2BA9D6B2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D6BAA-9A78-4CE4-9CDA-59F15EB5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984ED-2C8D-4061-8FD2-BCAF6D9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2B682-A545-433E-BD1C-06CD2FBE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3A47C-B2AB-4F7C-BC98-94E1BC2D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211-9C95-4DC2-9313-E6D8EF27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BFF7C-6468-424E-9684-CB19BBD4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8C127-8CD6-40EC-8260-05DEF1CC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EDB7F-254C-49D8-9A1B-DB0EB0A2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8E9E1-6D66-4577-B550-A54F1967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5BE78-14C7-4BB1-AC16-A85EF6A5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0E099-3753-48EB-9735-4C94FBE2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A5700-0179-4EF0-A0EE-9429CC3E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249A5-09AE-476F-9146-DD1C6EE4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2C08E-E0D7-49AD-985A-B3DD330A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CE9F5-27AB-4BD5-8BF4-9C076DE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DC33-20C8-4D12-85DC-3C6D3F90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41C49-5E95-46DD-B59A-3CFD251B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1CDA3-816C-454E-837C-D45505B0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F591D-9A5C-4AC8-869B-77C0A201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139AA-C716-4D5B-871A-72F5563A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4266D-4095-43FA-89E9-8DA5214B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B0807-3576-4BD1-86EE-337ECC6A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79CB8-A472-4B46-BCA2-9B435BE4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45614-E4FB-4E97-8B28-5272F969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3B28D-66D0-41ED-B786-E6AE19B9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A4BFB-1327-45C4-B4C2-D243B36B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6227-A767-49EF-82D9-E57750B4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EBD74-386C-4928-A27B-55C36CDC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93FF4-76E9-4489-9FD7-8D9F0EDB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E0355-5FF2-4AF0-BEFE-BBAF7972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A21DA-033D-44F9-8541-1DCEDFFB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BBE42-0E92-465E-A5AA-37C36213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2AA7-D77F-4E64-B36C-BFD16B2A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C01A-7B39-476D-8EA4-3DA70AC4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9C50-5837-447C-B8DF-B055BFDB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9763-E89D-40F0-A912-0C2681F2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90AD-88BB-4CA3-9B1A-92EA4E20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2C2-90DE-4375-9658-7984CE47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17A7-FC8B-48B2-B685-FDC69B94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1441-0EDE-40DB-8B47-285CD351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A6A4-18F7-41CC-B9B7-42A583EA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DF74-101B-46CC-AEB8-7B1195B9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21F2-1953-4302-9145-412DDCFB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13DB9-92E2-4C4F-804F-CD422746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125E-FDF2-42BF-ABE4-61277F58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36D18-37D4-43CA-8B3B-B5BAA965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0C56-00C3-4C69-9A06-A6CCE3A3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04A9-0657-43BF-9006-B30462CF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EBC-45A8-488A-9AB1-8C436207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E24CF-A8B4-4FED-B638-DD99BCDF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253C-3985-42B8-B2D9-AC5C133E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B83FE-B869-49CE-9529-65651996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2799-6681-4DDF-9157-D28C501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DE8E3-280E-4D57-9651-60F012D2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16D7-16CA-4FDB-BE21-2586C4D7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7145-BF09-4B08-9389-E31C940E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B607B-9680-49C6-AD1E-95502762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4D0A-AC0A-4094-8E9A-E9E58C5F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6B8E-35BC-421F-BC61-6B4D2AB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4CD-B011-47E3-9957-7C6FBB53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1B1F7-DC22-4E74-BC16-8D3E9D91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8D92-4875-45F4-8E60-AA86EE1C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AED7-05AC-42D1-94FA-3851DB09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38D66-E5BE-42B3-A645-63268CE4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03A43-D4F5-411D-9FA9-5F0615BA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9CEF0-9431-40E8-B773-EED952A7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999C6-91AC-419E-924D-27A485C9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170D-AD54-448E-AA3C-4307CEB7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8094-2FD6-4BE5-B81C-C92F25B6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79642-4808-4F97-9B5F-15FCCACD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261-84B2-4A29-A955-83C3569C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AAEAC-3267-47C0-8EDF-63D9EB1B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F318E-E751-4F1D-9BED-62291BF9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7E7DD-6128-4FCF-9521-5950FDA8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C0F5B-DA19-4507-A3CB-11AF5EDB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6DDB8-34AF-4DAA-8523-B88D916D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333EC-3172-4C47-B489-75702054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107D-FCF7-4E32-BA43-5ECDAE9F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C7DDA-45D0-4F70-81B7-7FD7974D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C519F-3989-4316-9EC9-CC50BE70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C3D8C-23F0-45B8-8C5A-23E848EC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571-33AD-48B2-8A81-03A38976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D2589-437A-4865-BCC1-3D49E29D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61FCB-DD45-41BE-ACEB-2C6470C2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20258-B0E2-4AAF-82D3-44FEBCD8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17788-784D-44B0-990D-8DF33487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DC3B7-955E-4CFA-B2E8-97D0FF4C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98C7B-2FC3-4FD0-BFB6-4EAE7C6C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115EA-3A10-47EC-BE2D-7033CDE0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247B5-1BE0-4633-9521-2A5C48B0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D5238-C8F7-466A-9B44-4526A575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E32A7-D820-4B69-839A-4CBEBEFB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FC3-9843-4A1F-9417-ECC73BED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48964-9E09-45A2-BD55-A2C9DF39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E2275-F9B5-484E-95AA-F239B3D2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A219E-BDDD-41D8-A76F-2938035C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E7F17-8655-4B3A-B651-42CC3016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15137-D33B-4D2B-B3F2-36975549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23D76-FD62-4D64-8D3D-D8F4BC38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9EA14-2484-41F7-9442-870ECF74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02A51-C9AC-444D-8E58-5C78CDFA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B09B3-8AB5-4FFF-9545-2328C6CF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F4CBD-5AD4-4ABF-97C5-84764CA1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651-A524-4B39-8009-5BFCB6FC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066B5-5F63-4F5F-9755-B4080929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10B62-6A6B-405A-8821-32B4EFA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A8DB4-A224-4ECB-868D-10270A7B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3833-79EF-4860-9199-27973B1D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846FA-B11E-4342-A912-7D2AD00C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43242-FCA7-4EA5-A8EC-82DCD488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7737A-3CBD-4634-8354-495DC79E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A38A2-49C3-4360-9D91-BB68513C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F043A-A504-44BF-80DE-00900710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6BC32-03D1-42A3-B758-13B1BC07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DFC-5102-4ED7-AB37-02BCECBB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3F89B-B413-493F-AE97-4C2C99D4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0782B-FAF1-4FF1-A8E8-4C551965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C51F-5856-4D06-8D08-90853B88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B34BC-90B9-4233-839D-F7BBCDA4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5B9A8-1ED5-4C59-BE0C-F57A4A89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B04B1-4B66-4131-AEC4-3775B9E0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B7AD5-5665-4136-BD7F-DE5225B0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E9FB8-9437-4832-9914-9F929FB3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AEBDE-5F73-4EB6-9B04-D22ED0B4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E00C9-20D9-41D5-9241-75FA551E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7337-0093-4B83-854C-2C9C7710CF4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3129-5771-4EB1-A4F4-E227F77A6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EE85-9406-4AD7-A686-93434FA3495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322D-F589-47D2-AA82-54F7FFD2D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02BE-F075-45E1-8531-1A305A8573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63AF-0F5C-414A-A710-179AE3A5F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BE91-7869-4CD4-9DE1-D395CDD043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1854-D9BC-4E49-A738-96B094A7A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9EBD-13C0-4AE1-8815-6E8362E49DB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A1B4-C3D5-44D3-A8F6-DECDD9976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3A73-3C22-40DB-A043-3AE8CF64BC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A2E2-20A0-4EE6-8CED-FEB97951A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38C8-86E0-45C7-8F75-3B7EC2BA3AC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A17E-B68C-46A3-BDD7-65C60E11F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5099-CB66-4D17-A6FD-62A643A6BFB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F1D-E8A5-4613-8FDE-53325D5A7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B504-DE37-4C47-815C-4663891198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CF74-4214-4F7F-8FB3-5AA0FACBB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75A6-5F7F-4DDC-ADBC-0F3616E6FE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D327-7195-462E-9E06-3C31245A2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5136-1E13-404C-B235-D5C0A88457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9827-E6AE-4CB0-9CA4-8C6B24516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ECC3-F9FF-4C0D-B662-BD67B234A3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774C-D800-492F-93E5-9884F5E1D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image" Target="../media/image1.png"/><Relationship Id="rId3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3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22"/>
          <p:cNvSpPr/>
          <p:nvPr/>
        </p:nvSpPr>
        <p:spPr>
          <a:xfrm>
            <a:off x="6159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Jeopordy Theme.wav" descr=""/>
          <p:cNvPicPr/>
          <p:nvPr/>
        </p:nvPicPr>
        <p:blipFill>
          <a:blip r:embed="rId3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94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085040" y="1752480"/>
            <a:ext cx="725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ve African American 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ght to vo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Jeopordy Theme.wav" descr=""/>
          <p:cNvPicPr/>
          <p:nvPr/>
        </p:nvPicPr>
        <p:blipFill>
          <a:blip r:embed="rId1"/>
          <a:stretch/>
        </p:blipFill>
        <p:spPr>
          <a:xfrm>
            <a:off x="4572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2094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435240" y="365760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7" descr="C:\Users\ssanders\Desktop\Jeopardy\images-3.jpg"/>
          <p:cNvPicPr/>
          <p:nvPr/>
        </p:nvPicPr>
        <p:blipFill>
          <a:blip r:embed="rId1"/>
          <a:stretch/>
        </p:blipFill>
        <p:spPr>
          <a:xfrm>
            <a:off x="4724280" y="304920"/>
            <a:ext cx="3353040" cy="32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58040" y="3124080"/>
            <a:ext cx="68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ich President made it a law that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were free from slave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2094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764000" y="3429000"/>
            <a:ext cx="571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braham Lincol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C:\Users\ssanders\Desktop\Jeopardy\images-4.jpg"/>
          <p:cNvPicPr/>
          <p:nvPr/>
        </p:nvPicPr>
        <p:blipFill>
          <a:blip r:embed="rId1"/>
          <a:stretch/>
        </p:blipFill>
        <p:spPr>
          <a:xfrm>
            <a:off x="3429000" y="762120"/>
            <a:ext cx="2371680" cy="26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889920" y="3200400"/>
            <a:ext cx="663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o was the Af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who gave speeches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, gav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ood to soldiers, and traveled around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the tru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Jeopordy Theme.wav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2094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686600" y="3581280"/>
            <a:ext cx="485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ojourner Tru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7" descr="C:\Users\ssanders\Desktop\Jeopardy\images-5.jpg"/>
          <p:cNvPicPr/>
          <p:nvPr/>
        </p:nvPicPr>
        <p:blipFill>
          <a:blip r:embed="rId1"/>
          <a:stretch/>
        </p:blipFill>
        <p:spPr>
          <a:xfrm>
            <a:off x="3352680" y="533520"/>
            <a:ext cx="2124360" cy="301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895320" y="3124080"/>
            <a:ext cx="745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ich African American traveled over 500 miles to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mpton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he wanted to be able to re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Jeopordy Theme.wav" descr=""/>
          <p:cNvPicPr/>
          <p:nvPr/>
        </p:nvPicPr>
        <p:blipFill>
          <a:blip r:embed="rId1"/>
          <a:stretch/>
        </p:blipFill>
        <p:spPr>
          <a:xfrm>
            <a:off x="4495680" y="4800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2094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-27360" y="3505320"/>
            <a:ext cx="65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ooker T. Washingt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7" descr="C:\Users\ssanders\Desktop\Jeopardy\images-6.jpg"/>
          <p:cNvPicPr/>
          <p:nvPr/>
        </p:nvPicPr>
        <p:blipFill>
          <a:blip r:embed="rId1"/>
          <a:stretch/>
        </p:blipFill>
        <p:spPr>
          <a:xfrm>
            <a:off x="3962520" y="304920"/>
            <a:ext cx="2238120" cy="331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80880" y="1447920"/>
            <a:ext cx="744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o wrote in a newspaper about freedom and was the first African American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n for public office in the United Stat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Jeopordy Theme.wav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2094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2122200" y="3352680"/>
            <a:ext cx="40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Ida B. W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085840" cy="260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27720" y="3124080"/>
            <a:ext cx="867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What is the important document that wa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787 as the basic rule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count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Jeopordy Theme.wav" descr=""/>
          <p:cNvPicPr/>
          <p:nvPr/>
        </p:nvPicPr>
        <p:blipFill>
          <a:blip r:embed="rId1"/>
          <a:stretch/>
        </p:blipFill>
        <p:spPr>
          <a:xfrm>
            <a:off x="41911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094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-990720" y="762120"/>
            <a:ext cx="1112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o was the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started a school for African 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rls which later became a colle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elped President Roosevelt during the G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?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2094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990720" y="236232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Mary McLeod Bethu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6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200320" cy="321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575640" y="3124080"/>
            <a:ext cx="87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are separated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given equal rights it is called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Jeopordy Theme.wav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2094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609480" y="3657600"/>
            <a:ext cx="651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Segregat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7" descr="C:\Users\ssanders\Desktop\Jeopardy\images-12.jpg"/>
          <p:cNvPicPr/>
          <p:nvPr/>
        </p:nvPicPr>
        <p:blipFill>
          <a:blip r:embed="rId1"/>
          <a:stretch/>
        </p:blipFill>
        <p:spPr>
          <a:xfrm>
            <a:off x="2819520" y="685800"/>
            <a:ext cx="2733480" cy="296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-38160" y="2743200"/>
            <a:ext cx="585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An amendment i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Jeopordy Theme.wav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2094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452880" y="3505320"/>
            <a:ext cx="637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n addition or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7" descr=""/>
          <p:cNvPicPr/>
          <p:nvPr/>
        </p:nvPicPr>
        <p:blipFill>
          <a:blip r:embed="rId1"/>
          <a:stretch/>
        </p:blipFill>
        <p:spPr>
          <a:xfrm>
            <a:off x="2590920" y="0"/>
            <a:ext cx="428616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609480" y="20574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en people can’t see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ho they really are. It is called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Jeopordy Theme.wav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2094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914400" y="3200400"/>
            <a:ext cx="670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97920" y="3124080"/>
            <a:ext cx="431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Prejud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7" descr="C:\Users\ssanders\Desktop\Jeopardy\images-9.jpg"/>
          <p:cNvPicPr/>
          <p:nvPr/>
        </p:nvPicPr>
        <p:blipFill>
          <a:blip r:embed="rId1"/>
          <a:stretch/>
        </p:blipFill>
        <p:spPr>
          <a:xfrm>
            <a:off x="2743200" y="914400"/>
            <a:ext cx="3371760" cy="22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60240" y="914400"/>
            <a:ext cx="787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The Freedmen’s Bureau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rted after slaves were set free because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Jeopordy Theme.wav" descr=""/>
          <p:cNvPicPr/>
          <p:nvPr/>
        </p:nvPicPr>
        <p:blipFill>
          <a:blip r:embed="rId1"/>
          <a:stretch/>
        </p:blipFill>
        <p:spPr>
          <a:xfrm>
            <a:off x="4419720" y="4191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2094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523880" y="129528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y helped blacks find jobs, homes, schools, family members, et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6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3857760" cy="281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026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028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30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31"/>
          <p:cNvSpPr/>
          <p:nvPr/>
        </p:nvSpPr>
        <p:spPr>
          <a:xfrm>
            <a:off x="317520" y="320040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The Constit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8" descr="C:\Users\ssanders\Desktop\Jeopardy\images-10.jpg"/>
          <p:cNvPicPr/>
          <p:nvPr/>
        </p:nvPicPr>
        <p:blipFill>
          <a:blip r:embed="rId1"/>
          <a:stretch/>
        </p:blipFill>
        <p:spPr>
          <a:xfrm>
            <a:off x="4572000" y="0"/>
            <a:ext cx="3772080" cy="351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1135080" y="685800"/>
            <a:ext cx="762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a group of African Americans went into a segregated place of business to protest peace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Jeopordy Theme.wav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2094" fill="hold"/>
                                        <p:tgtEl>
                                          <p:spTgt spid="6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5220720" y="4691160"/>
            <a:ext cx="270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“sit-in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8" descr="C:\Users\ssanders\Desktop\Jeopardy\CI010B.jpg"/>
          <p:cNvPicPr/>
          <p:nvPr/>
        </p:nvPicPr>
        <p:blipFill>
          <a:blip r:embed="rId1"/>
          <a:stretch/>
        </p:blipFill>
        <p:spPr>
          <a:xfrm>
            <a:off x="838080" y="457200"/>
            <a:ext cx="3810240" cy="37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380880" y="3048120"/>
            <a:ext cx="8483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 or False?  When Addy missed some worms, the overseer punished her by dropping the worms down her back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Jeopordy Theme.wav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2094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151640" y="34290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8" descr="C:\Users\ssanders\Desktop\Jeopardy\images-15.jpg"/>
          <p:cNvPicPr/>
          <p:nvPr/>
        </p:nvPicPr>
        <p:blipFill>
          <a:blip r:embed="rId1"/>
          <a:stretch/>
        </p:blipFill>
        <p:spPr>
          <a:xfrm>
            <a:off x="5257800" y="2133720"/>
            <a:ext cx="2314440" cy="214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898560" y="487692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43760" y="304812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dy overheard her par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spering abou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Jeopordy Theme.wav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2094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779120" y="3200400"/>
            <a:ext cx="580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aping the plan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7" descr="C:\Users\ssanders\Desktop\Jeopardy\escape.jpg"/>
          <p:cNvPicPr/>
          <p:nvPr/>
        </p:nvPicPr>
        <p:blipFill>
          <a:blip r:embed="rId1"/>
          <a:stretch/>
        </p:blipFill>
        <p:spPr>
          <a:xfrm>
            <a:off x="6172200" y="304920"/>
            <a:ext cx="2436840" cy="30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477360" y="3276720"/>
            <a:ext cx="620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as Harriet cry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church bas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Jeopordy Theme.wav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2094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165680" y="3429000"/>
            <a:ext cx="495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 uncle had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7" descr="C:\Users\ssanders\Desktop\Jeopardy\alone,black,and,white,depressed,girl,hair,sad-c12869d819b7ff5009a894d6b3bfc265_m.jpg"/>
          <p:cNvPicPr/>
          <p:nvPr/>
        </p:nvPicPr>
        <p:blipFill>
          <a:blip r:embed="rId1"/>
          <a:stretch/>
        </p:blipFill>
        <p:spPr>
          <a:xfrm>
            <a:off x="3429000" y="53352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8000" y="2743200"/>
            <a:ext cx="77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id Addy read at chur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New Year’s Ev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Jeopordy Theme.wav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2094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1817280" y="2895480"/>
            <a:ext cx="553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mancip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cla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Picture 8" descr="C:\Users\ssanders\Desktop\Jeopardy\The_Emancipation_Proclamation.jpg"/>
          <p:cNvPicPr/>
          <p:nvPr/>
        </p:nvPicPr>
        <p:blipFill>
          <a:blip r:embed="rId1"/>
          <a:stretch/>
        </p:blipFill>
        <p:spPr>
          <a:xfrm>
            <a:off x="304920" y="304920"/>
            <a:ext cx="2404800" cy="327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506160" y="2362320"/>
            <a:ext cx="82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at were the first 10 Amendments to the Constitution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Jeopordy Theme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2094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274760" y="342900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re Momma and Ad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ing their money to bu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Jeopordy Theme.wav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2094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738000" y="3809880"/>
            <a:ext cx="150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7" descr="C:\Users\ssanders\Desktop\Jeopardy\images-14.jpg"/>
          <p:cNvPicPr/>
          <p:nvPr/>
        </p:nvPicPr>
        <p:blipFill>
          <a:blip r:embed="rId1"/>
          <a:stretch/>
        </p:blipFill>
        <p:spPr>
          <a:xfrm>
            <a:off x="3962520" y="1143000"/>
            <a:ext cx="3238560" cy="3211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1089360" y="3505320"/>
            <a:ext cx="690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name for a sl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ster wa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Jeopordy Theme.wav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2094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647280" y="3276720"/>
            <a:ext cx="243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Mar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8" descr="C:\Users\ssanders\Desktop\Jeopardy\master_slave_mid.jpg"/>
          <p:cNvPicPr/>
          <p:nvPr/>
        </p:nvPicPr>
        <p:blipFill>
          <a:blip r:embed="rId1"/>
          <a:stretch/>
        </p:blipFill>
        <p:spPr>
          <a:xfrm>
            <a:off x="3809880" y="849240"/>
            <a:ext cx="3686400" cy="22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336600" y="1828800"/>
            <a:ext cx="8807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at woman was an ex-slave who, after escaping, returned at least 13 times to help slaves escape on the Underground Railroad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Jeopordy Theme.wav" descr=""/>
          <p:cNvPicPr/>
          <p:nvPr/>
        </p:nvPicPr>
        <p:blipFill>
          <a:blip r:embed="rId1"/>
          <a:stretch/>
        </p:blipFill>
        <p:spPr>
          <a:xfrm>
            <a:off x="4419720" y="4876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2094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922760" y="3276720"/>
            <a:ext cx="409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1"/>
          <a:stretch/>
        </p:blipFill>
        <p:spPr>
          <a:xfrm>
            <a:off x="380880" y="0"/>
            <a:ext cx="3048120" cy="34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1563120" y="297180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year did the Civil War start and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Jeopordy Theme.wav" descr=""/>
          <p:cNvPicPr/>
          <p:nvPr/>
        </p:nvPicPr>
        <p:blipFill>
          <a:blip r:embed="rId1"/>
          <a:stretch/>
        </p:blipFill>
        <p:spPr>
          <a:xfrm>
            <a:off x="4495680" y="4038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32094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2771280" y="3200400"/>
            <a:ext cx="282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861-18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7" descr=""/>
          <p:cNvPicPr/>
          <p:nvPr/>
        </p:nvPicPr>
        <p:blipFill>
          <a:blip r:embed="rId1"/>
          <a:stretch/>
        </p:blipFill>
        <p:spPr>
          <a:xfrm>
            <a:off x="1600200" y="0"/>
            <a:ext cx="5429160" cy="332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493640" y="2895480"/>
            <a:ext cx="55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 called when you protest by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or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Jeopordy Theme.wav" descr=""/>
          <p:cNvPicPr/>
          <p:nvPr/>
        </p:nvPicPr>
        <p:blipFill>
          <a:blip r:embed="rId1"/>
          <a:stretch/>
        </p:blipFill>
        <p:spPr>
          <a:xfrm>
            <a:off x="4267080" y="3733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2094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1483560" y="32004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The Montgomery Bus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7" descr=""/>
          <p:cNvPicPr/>
          <p:nvPr/>
        </p:nvPicPr>
        <p:blipFill>
          <a:blip r:embed="rId1"/>
          <a:stretch/>
        </p:blipFill>
        <p:spPr>
          <a:xfrm>
            <a:off x="2895480" y="838080"/>
            <a:ext cx="2905200" cy="20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698840" y="3581280"/>
            <a:ext cx="426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Bill of Righ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8" descr="C:\Users\ssanders\Desktop\Jeopardy\images-1.jpg"/>
          <p:cNvPicPr/>
          <p:nvPr/>
        </p:nvPicPr>
        <p:blipFill>
          <a:blip r:embed="rId1"/>
          <a:stretch/>
        </p:blipFill>
        <p:spPr>
          <a:xfrm>
            <a:off x="2514600" y="228600"/>
            <a:ext cx="3809880" cy="345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474840" y="1447920"/>
            <a:ext cx="8897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Rosa Parks, Martin Luther King Jr. and many other African Americans stood 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ir rights. They led what mov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Jeopordy Theme.wav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2094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630440" y="3581280"/>
            <a:ext cx="609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vil Rights Mov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7" descr="C:\Users\ssanders\Desktop\Jeopardy\51YYFA37PXL._SL500_AA240_.jpg"/>
          <p:cNvPicPr/>
          <p:nvPr/>
        </p:nvPicPr>
        <p:blipFill>
          <a:blip r:embed="rId1"/>
          <a:stretch/>
        </p:blipFill>
        <p:spPr>
          <a:xfrm>
            <a:off x="3505320" y="457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514800" y="2895480"/>
            <a:ext cx="7023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: Which amendment g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laves their freed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094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63680" y="3505320"/>
            <a:ext cx="47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Amendment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8" descr="C:\Users\ssanders\Desktop\Jeopardy\images-2.jpg"/>
          <p:cNvPicPr/>
          <p:nvPr/>
        </p:nvPicPr>
        <p:blipFill>
          <a:blip r:embed="rId1"/>
          <a:stretch/>
        </p:blipFill>
        <p:spPr>
          <a:xfrm>
            <a:off x="5715000" y="685800"/>
            <a:ext cx="297180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395000" y="2895480"/>
            <a:ext cx="621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Laws that were passed to keep Af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from having the same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ites w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Jeopordy Theme.wav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094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717920" y="2743200"/>
            <a:ext cx="495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: Jim Crow La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7" descr="C:\Users\ssanders\Desktop\Jeopardy\jimcrowexample.jpg"/>
          <p:cNvPicPr/>
          <p:nvPr/>
        </p:nvPicPr>
        <p:blipFill>
          <a:blip r:embed="rId1"/>
          <a:stretch/>
        </p:blipFill>
        <p:spPr>
          <a:xfrm>
            <a:off x="2971800" y="3809880"/>
            <a:ext cx="3809880" cy="25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Teacher</cp:lastModifiedBy>
  <dcterms:modified xsi:type="dcterms:W3CDTF">2010-08-10T00:56:56Z</dcterms:modified>
  <cp:revision>109</cp:revision>
  <dc:subject/>
  <dc:title>Blank Jeopardy</dc:title>
</cp:coreProperties>
</file>