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jpeg" ContentType="image/jpeg"/>
  <Override PartName="/ppt/media/image8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3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anor M. Sav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E71A-3922-4802-B816-DF347835EF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1C7F-8B70-4F77-801F-179C47A81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anor M. Sav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D24B-E67F-489B-AD7C-B6C8544C30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Slide Number Placeholder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9C7A-5822-48A6-AFD9-3414D5DC4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5FE4-F002-46A8-899B-6E82D5DCF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189C-69DD-4482-9A87-7DAFBFA6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94B111-F4D1-4A2D-BB62-503ED13C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EE184-DFD6-4E76-A527-95C10AC7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A31EB9-E6ED-4242-816F-18860F4C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9CE3F0-24B7-47A9-9BCD-F843661C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89AB6-D6ED-4C82-9DC6-46DAA867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E2F1B-F1F4-4375-AE2F-A1C842FE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50FB3-7D62-4651-8EF6-61B10364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A0B35-8813-4959-AEC6-088A3CAA1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E499B-EC8A-4115-8E47-39A0B7B78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A082CA-1457-4D1D-BF06-4BCBD4E1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4646-0D58-4CB5-BF6E-6860063EB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02685D-F9FA-4FE5-AFDD-C48FDE7E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F0C056-2819-4355-9FF1-5990EADA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B63E7-4471-4E53-B60F-83EA44AD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F9E4E2-DB78-4CC6-8D99-6CE4F648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D0FE9-6736-4FE1-943C-2A156820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4F136-67BF-4FF2-AEA2-3534C83B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05A4E-8EE7-43FA-8682-F7A8E989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B743F7-1E46-4B0F-8F11-D76A7BBD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131FD0-2331-41DE-8721-78EA6EF6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0F074A-B725-4638-B9F6-221B06351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E7E1-9345-4034-8440-B77FF1785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7A25AE-77F9-440F-A8C9-392EE2CB2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F0DD9-E4A9-483E-A462-0C0B175A8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7822F-3A77-4F8C-8BE8-BDED822F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531C4-3A3F-4E4B-B899-0A576DB0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B5687-D115-4413-9B8D-A548CCD8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255698-E553-486A-9B1F-7BFB7FDC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D4D09-4D37-438F-A252-12B4CCEF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AA6DF-3125-4B1D-8F32-556ECBC7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5FC82-6B36-43C4-A190-09C94FD2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D8D28-D2DB-4AE2-9EEB-5FE1AA4B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5FD3-BF99-42FF-8925-389AC6AB6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E2256-43F8-4919-91D9-6480B89C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CC43E-03F2-4562-B6BF-CDCB1726F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1C251-D861-4891-A4D3-B1A589FC5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C2088-E0B8-4C07-97DD-D5922D1A1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EA41AF-1D1F-4758-8F1F-62F4DBB9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51E5A4-805E-4435-8553-B6A3BDCE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1BBAC6-EF80-4BB0-98DC-9AFA2747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37991-ED6C-47D7-9540-E9963796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816C8E-16CB-4D36-9F8B-44897B01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237A8B-45F9-4C99-9BF1-76B90D13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A7E6-DA39-4233-B0F1-82EDBDF0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C403D9-7BFE-4609-A111-1F9A96D8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498287-3959-4590-ABE1-84291DF9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8BB297-A3CE-40E6-90C1-3E075A06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E1AE12-C3D7-4026-844E-3E676382D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964EBF-F701-46A4-BA4F-91AE9C4AF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014B-E911-4B41-A4FC-323147A1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0DAF-EDAF-43AC-9549-4ABBE82C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9BFC-A4CE-46E1-9A4C-12B6428F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474C-C251-411D-9098-3611F657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D8AF-710A-4D11-9B1D-B4A3F1E3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ACE2-D0F2-493F-8C32-A48D12A2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5082-0734-4C3D-A451-A4FCC8BC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9F93-DD98-447D-AC82-BDD1AD25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0E2F-0915-4D6E-B6CD-787AC798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112E-D80F-4939-9AA6-FBEFF8F5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7BFB-EA44-46B5-9CA2-9CE0D8DDB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160EE-28D1-4158-A1A8-5DDA1C317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6DF45-FB5E-4DBD-8FD9-83974FFF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156C0-6A46-48B1-AB1E-74116F0B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425C9-B7A7-4CB8-AD99-27E18D2B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EE933-6531-4EDE-9C65-9FE53753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FB80-9CD1-4CBB-91CB-51FD9D63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1BC63-E84E-44E7-B454-5B49C863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700A6-E7D6-4200-BE58-46D44ED0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1EE2A-B889-4431-AD95-A2290C9F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0291C-40D4-423C-AA47-232C7D3D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27B54-2653-4773-8733-C01BF1EA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3CFCA-DAF7-4222-84CE-9772DE211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B81FA-77F5-4B89-8EE3-37001F855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27AEC-2A66-453B-A142-E01F70208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D202F-02E5-4A4F-ACBA-142102CB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E0A3D-2E3C-48B6-9B1C-109E1E61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F8D8-49D5-46FD-AD04-0C255F12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B55D1-FF31-4C8B-A1A2-84D8C405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B89E2-C006-4260-85C9-29C35105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206A5-2D4B-4028-A9F0-849BF2B6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69668-09ED-4FAF-9F94-15AA3D57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1C491-2076-47FF-A6B6-31824362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2BDCE-19AF-46A7-AD60-447495D0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A221C-8FE2-43F8-9681-9843598B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01C8E-150C-4789-9AE7-0C579570A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473FC-A491-4FE1-9F14-99935FC73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F90AC-F30A-4881-8CEE-4912CC0F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C18D-D498-42A9-B7E2-C42FF219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24224-C4A7-40AC-9816-5E09D01D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E0C53-3258-4E22-B331-D6550533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20BA2-C2E6-44B9-B7F9-4EB2E3AC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765D4-DB03-4093-80D2-A3705E36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76E81-6F1B-488F-95DA-061F8325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4E261-B03A-48EC-84F1-CFAD3E7C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AD668-9CE4-4C17-95A1-8A6CFD51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24DAE-6157-4284-B9A8-05E1783B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68FB8-8FD3-42A2-BDA8-7E299861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D0565-2829-48B5-AF52-F876D4BBF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8C62-7893-4365-B44A-ED781AB2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BEA5C-3D69-450A-BAC2-1F294A48B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7123F-40B0-4C39-893B-9B681B319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2E35E-B5D2-4706-AE37-B2B47061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8AC15-F35B-44B6-AC4C-C7B0718D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93152-3796-4C1B-8692-B19F76F3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99922-FC61-4EDB-8CBA-439C83B2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18D1A-32E5-49A9-A452-26ED8B1D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C0901-3549-46BF-BD76-5C26BF16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176AC-5662-4FC6-8565-5603A26E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091A6-05CE-440F-9ABF-C288B751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ED9C-14A5-48E9-8244-617B6BDF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E0636-CF6E-466A-8437-8C238E83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54096-037D-4AAC-8085-7E08A6B06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88E10-5415-4E9B-B108-11EF44E7F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696E5-DC6F-414F-ADF9-B0956BF17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F067E-A2AB-4BC6-88B5-7075B5DE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12F48-0B71-484E-BD78-DDC9900C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0EAFA-FC74-41EE-94BD-290FE85E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07B1F-3074-4FDD-A9A8-C980F066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F3557-2CF4-4262-8B8A-50F943D1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62B4B-1554-40E1-9A15-F01544ED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08A7-ECCE-400C-811D-995E30D2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B546B-F5BB-4761-8F3E-472EDA4F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37846-93BC-45DD-BE8C-17F1CBE9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18117-C74E-4002-A1DC-FDAC2D0D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7F2FA-DC74-4D67-8690-7A349EF42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549D9-E272-4479-8225-880B26FC8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579AC-D577-4873-B651-D4ACD825A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6BBA6-E96E-4F43-BBED-E5CEE2D9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E7C16-EE46-49E8-B6F0-761A806D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DEFA5-7811-41BC-A35D-CFA46637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63DD0-A9AD-4F2F-B7D8-95FD35C9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9BFB-91DA-4CDC-B6F1-5E01A8D1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E8CB2-109D-4C05-943A-A0DBCCE1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BC8C6-4602-4C4E-B504-D369EC05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0C5D8-AA46-4D0C-B051-77D6C2BC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83FFB-2E75-4FF3-854F-749849C9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768FD-4B89-4058-9363-DD0CCDD0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12751-EA55-428A-A6F9-10BCFA0F0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E943A-1C37-4720-B153-1762A8B51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6DDF9-BB77-42A5-899F-08AFBD546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CE071-727D-48A3-A570-DB206E93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19E7E-5451-444D-BD4C-27F84FD8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4FD1-004C-47E9-91CD-7DA31FA9390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A9C7-AB19-4A0D-BE19-16B6FBDA8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BD39-AC91-49C8-94AF-3104BCFBC66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0489-9E22-4DF1-999A-504DE7B52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2E12-449D-4AAB-B87D-1863CDDB629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0E9B-70CE-4C2B-9763-423457765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A7E0-F38E-4726-9A3C-3D05856BB4D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9B26-CBE4-4670-9F5B-D28885344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7D76-B0D4-457F-885C-4D95248C2AB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4B5F-3D6E-4DC5-9459-CC57CFDFD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0A03-B3AD-45C4-8608-2B51B2901BC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2343-463E-42A1-9249-055527EE6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220E-AC18-48A4-893D-AC794557F12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4DA8-0B9B-4154-B6B5-A37ED1044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81F8-BC7C-4C8F-9E0D-7F2041AF8FE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09FC-165A-4A51-B4C2-3F992A195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43ED-EEB1-44A0-B750-4381F059250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4616-3581-4B11-8711-CCC35C3E2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65A7-B506-4F6B-B460-ABEFF181C58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C9C2-4EC5-47B0-8D20-2BD1696E0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90F2-B0CB-450D-89C1-131397ECE24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0455-14F8-4956-9D9F-ABA49442B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9CE5-DEBB-4E0F-B83E-FE583F58C63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6C68-A896-49BB-8C28-D93EB6C29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2.xml"/><Relationship Id="rId11" Type="http://schemas.openxmlformats.org/officeDocument/2006/relationships/slide" Target=""/><Relationship Id="rId12" Type="http://schemas.openxmlformats.org/officeDocument/2006/relationships/slide" Target="slide14.xml"/><Relationship Id="rId13" Type="http://schemas.openxmlformats.org/officeDocument/2006/relationships/slide" Target=""/><Relationship Id="rId14" Type="http://schemas.openxmlformats.org/officeDocument/2006/relationships/slide" Target="slide16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slide20.xml"/><Relationship Id="rId19" Type="http://schemas.openxmlformats.org/officeDocument/2006/relationships/slide" Target=""/><Relationship Id="rId20" Type="http://schemas.openxmlformats.org/officeDocument/2006/relationships/slide" Target="slide22.xml"/><Relationship Id="rId21" Type="http://schemas.openxmlformats.org/officeDocument/2006/relationships/slide" Target=""/><Relationship Id="rId22" Type="http://schemas.openxmlformats.org/officeDocument/2006/relationships/slide" Target="slide24.xml"/><Relationship Id="rId23" Type="http://schemas.openxmlformats.org/officeDocument/2006/relationships/slide" Target=""/><Relationship Id="rId24" Type="http://schemas.openxmlformats.org/officeDocument/2006/relationships/slide" Target="slide26.xml"/><Relationship Id="rId25" Type="http://schemas.openxmlformats.org/officeDocument/2006/relationships/slide" Target=""/><Relationship Id="rId26" Type="http://schemas.openxmlformats.org/officeDocument/2006/relationships/slide" Target="slide28.xml"/><Relationship Id="rId27" Type="http://schemas.openxmlformats.org/officeDocument/2006/relationships/slide" Target=""/><Relationship Id="rId28" Type="http://schemas.openxmlformats.org/officeDocument/2006/relationships/slide" Target="slide30.xml"/><Relationship Id="rId29" Type="http://schemas.openxmlformats.org/officeDocument/2006/relationships/slide" Target=""/><Relationship Id="rId30" Type="http://schemas.openxmlformats.org/officeDocument/2006/relationships/slide" Target="slide32.xml"/><Relationship Id="rId31" Type="http://schemas.openxmlformats.org/officeDocument/2006/relationships/slide" Target=""/><Relationship Id="rId32" Type="http://schemas.openxmlformats.org/officeDocument/2006/relationships/slide" Target="slide34.xml"/><Relationship Id="rId33" Type="http://schemas.openxmlformats.org/officeDocument/2006/relationships/slide" Target="slide36.xml"/><Relationship Id="rId34" Type="http://schemas.openxmlformats.org/officeDocument/2006/relationships/image" Target="../media/image1.png"/><Relationship Id="rId35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6" action="ppaction://hlinksldjump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8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0" action="ppaction://hlinksldjump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112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2" action="ppaction://hlinksldjump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13"/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3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114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122"/>
          <p:cNvSpPr/>
          <p:nvPr/>
        </p:nvSpPr>
        <p:spPr>
          <a:xfrm>
            <a:off x="6159600" y="30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Jeopordy Theme.wav" descr=""/>
          <p:cNvPicPr/>
          <p:nvPr/>
        </p:nvPicPr>
        <p:blipFill>
          <a:blip r:embed="rId3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094" fill="hold"/>
                                        <p:tgtEl>
                                          <p:spTgt spid="5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3"/>
          <p:cNvSpPr/>
          <p:nvPr/>
        </p:nvSpPr>
        <p:spPr>
          <a:xfrm>
            <a:off x="1085040" y="1752480"/>
            <a:ext cx="7259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Which amend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ave African American m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right to vot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1" name="Jeopordy Theme.wav" descr=""/>
          <p:cNvPicPr/>
          <p:nvPr/>
        </p:nvPicPr>
        <p:blipFill>
          <a:blip r:embed="rId1"/>
          <a:stretch/>
        </p:blipFill>
        <p:spPr>
          <a:xfrm>
            <a:off x="4572000" y="46483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2094" fill="hold"/>
                                        <p:tgtEl>
                                          <p:spTgt spid="5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435240" y="3657600"/>
            <a:ext cx="471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Amendment 1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7" descr="C:\Users\ssanders\Desktop\Jeopardy\images-3.jpg"/>
          <p:cNvPicPr/>
          <p:nvPr/>
        </p:nvPicPr>
        <p:blipFill>
          <a:blip r:embed="rId1"/>
          <a:stretch/>
        </p:blipFill>
        <p:spPr>
          <a:xfrm>
            <a:off x="4724280" y="304920"/>
            <a:ext cx="3353040" cy="324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158040" y="3124080"/>
            <a:ext cx="685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: Which President made it a law that Afric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ericans were free from slave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Jeopordy Theme.wav" descr=""/>
          <p:cNvPicPr/>
          <p:nvPr/>
        </p:nvPicPr>
        <p:blipFill>
          <a:blip r:embed="rId1"/>
          <a:stretch/>
        </p:blipFill>
        <p:spPr>
          <a:xfrm>
            <a:off x="4572000" y="45720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2094" fill="hold"/>
                                        <p:tgtEl>
                                          <p:spTgt spid="5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5"/>
          <p:cNvSpPr/>
          <p:nvPr/>
        </p:nvSpPr>
        <p:spPr>
          <a:xfrm>
            <a:off x="1764000" y="3429000"/>
            <a:ext cx="571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Abraham Lincoln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7" descr="C:\Users\ssanders\Desktop\Jeopardy\images-4.jpg"/>
          <p:cNvPicPr/>
          <p:nvPr/>
        </p:nvPicPr>
        <p:blipFill>
          <a:blip r:embed="rId1"/>
          <a:stretch/>
        </p:blipFill>
        <p:spPr>
          <a:xfrm>
            <a:off x="3429000" y="762120"/>
            <a:ext cx="2371680" cy="2601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889920" y="3200400"/>
            <a:ext cx="6633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Who was the Afr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erican who gave speeches ab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dom, gave 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food to soldiers, and traveled around the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aking the trut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Jeopordy Theme.wav" descr=""/>
          <p:cNvPicPr/>
          <p:nvPr/>
        </p:nvPicPr>
        <p:blipFill>
          <a:blip r:embed="rId1"/>
          <a:stretch/>
        </p:blipFill>
        <p:spPr>
          <a:xfrm>
            <a:off x="4114800" y="17524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2094" fill="hold"/>
                                        <p:tgtEl>
                                          <p:spTgt spid="5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5"/>
          <p:cNvSpPr/>
          <p:nvPr/>
        </p:nvSpPr>
        <p:spPr>
          <a:xfrm>
            <a:off x="1686600" y="3581280"/>
            <a:ext cx="485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Sojourner Tru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Picture 7" descr="C:\Users\ssanders\Desktop\Jeopardy\images-5.jpg"/>
          <p:cNvPicPr/>
          <p:nvPr/>
        </p:nvPicPr>
        <p:blipFill>
          <a:blip r:embed="rId1"/>
          <a:stretch/>
        </p:blipFill>
        <p:spPr>
          <a:xfrm>
            <a:off x="3352680" y="533520"/>
            <a:ext cx="2124360" cy="3017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895320" y="3124080"/>
            <a:ext cx="745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Which African American traveled over 500 miles to 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Hampton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he wanted to be able to re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Jeopordy Theme.wav" descr=""/>
          <p:cNvPicPr/>
          <p:nvPr/>
        </p:nvPicPr>
        <p:blipFill>
          <a:blip r:embed="rId1"/>
          <a:stretch/>
        </p:blipFill>
        <p:spPr>
          <a:xfrm>
            <a:off x="4495680" y="48006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2094" fill="hold"/>
                                        <p:tgtEl>
                                          <p:spTgt spid="5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-27360" y="3505320"/>
            <a:ext cx="651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Booker T. Washingt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7" descr="C:\Users\ssanders\Desktop\Jeopardy\images-6.jpg"/>
          <p:cNvPicPr/>
          <p:nvPr/>
        </p:nvPicPr>
        <p:blipFill>
          <a:blip r:embed="rId1"/>
          <a:stretch/>
        </p:blipFill>
        <p:spPr>
          <a:xfrm>
            <a:off x="3962520" y="304920"/>
            <a:ext cx="2238120" cy="3317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380880" y="1447920"/>
            <a:ext cx="7445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Who wrote in a newspaper about freedom and was the first African American 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un for public office in the United States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Jeopordy Theme.wav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2094" fill="hold"/>
                                        <p:tgtEl>
                                          <p:spTgt spid="6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5"/>
          <p:cNvSpPr/>
          <p:nvPr/>
        </p:nvSpPr>
        <p:spPr>
          <a:xfrm>
            <a:off x="2122200" y="3352680"/>
            <a:ext cx="400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Ida B. Wel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7" descr=""/>
          <p:cNvPicPr/>
          <p:nvPr/>
        </p:nvPicPr>
        <p:blipFill>
          <a:blip r:embed="rId1"/>
          <a:stretch/>
        </p:blipFill>
        <p:spPr>
          <a:xfrm>
            <a:off x="3048120" y="304920"/>
            <a:ext cx="2085840" cy="2609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27720" y="3124080"/>
            <a:ext cx="8673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: What is the important document that was c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787 as the basic rule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 count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Jeopordy Theme.wav" descr=""/>
          <p:cNvPicPr/>
          <p:nvPr/>
        </p:nvPicPr>
        <p:blipFill>
          <a:blip r:embed="rId1"/>
          <a:stretch/>
        </p:blipFill>
        <p:spPr>
          <a:xfrm>
            <a:off x="4191120" y="4952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2094" fill="hold"/>
                                        <p:tgtEl>
                                          <p:spTgt spid="5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4"/>
          <p:cNvSpPr/>
          <p:nvPr/>
        </p:nvSpPr>
        <p:spPr>
          <a:xfrm>
            <a:off x="-990720" y="762120"/>
            <a:ext cx="1112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: Who was the African Americ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 started a school for African Americ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rls which later became a colleg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helped President Roosevelt during the Gr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ession?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4" name="Jeopordy Theme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32094" fill="hold"/>
                                        <p:tgtEl>
                                          <p:spTgt spid="6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5"/>
          <p:cNvSpPr/>
          <p:nvPr/>
        </p:nvSpPr>
        <p:spPr>
          <a:xfrm>
            <a:off x="990720" y="236232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Mary McLeod Bethu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Picture 6" descr=""/>
          <p:cNvPicPr/>
          <p:nvPr/>
        </p:nvPicPr>
        <p:blipFill>
          <a:blip r:embed="rId1"/>
          <a:stretch/>
        </p:blipFill>
        <p:spPr>
          <a:xfrm>
            <a:off x="6172200" y="1523880"/>
            <a:ext cx="2200320" cy="3219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3"/>
          <p:cNvSpPr/>
          <p:nvPr/>
        </p:nvSpPr>
        <p:spPr>
          <a:xfrm>
            <a:off x="575640" y="3124080"/>
            <a:ext cx="875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When people are separated an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t given equal rights it is called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Jeopordy Theme.wav" descr=""/>
          <p:cNvPicPr/>
          <p:nvPr/>
        </p:nvPicPr>
        <p:blipFill>
          <a:blip r:embed="rId1"/>
          <a:stretch/>
        </p:blipFill>
        <p:spPr>
          <a:xfrm>
            <a:off x="4495680" y="1981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622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622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2094" fill="hold"/>
                                        <p:tgtEl>
                                          <p:spTgt spid="6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5"/>
          <p:cNvSpPr/>
          <p:nvPr/>
        </p:nvSpPr>
        <p:spPr>
          <a:xfrm>
            <a:off x="609480" y="3657600"/>
            <a:ext cx="651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Segregation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Picture 7" descr="C:\Users\ssanders\Desktop\Jeopardy\images-12.jpg"/>
          <p:cNvPicPr/>
          <p:nvPr/>
        </p:nvPicPr>
        <p:blipFill>
          <a:blip r:embed="rId1"/>
          <a:stretch/>
        </p:blipFill>
        <p:spPr>
          <a:xfrm>
            <a:off x="2819520" y="685800"/>
            <a:ext cx="2733480" cy="296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-38160" y="2743200"/>
            <a:ext cx="585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An amendment is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Jeopordy Theme.wav" descr=""/>
          <p:cNvPicPr/>
          <p:nvPr/>
        </p:nvPicPr>
        <p:blipFill>
          <a:blip r:embed="rId1"/>
          <a:stretch/>
        </p:blipFill>
        <p:spPr>
          <a:xfrm>
            <a:off x="4648320" y="41148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631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631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2094" fill="hold"/>
                                        <p:tgtEl>
                                          <p:spTgt spid="6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5"/>
          <p:cNvSpPr/>
          <p:nvPr/>
        </p:nvSpPr>
        <p:spPr>
          <a:xfrm>
            <a:off x="452880" y="3505320"/>
            <a:ext cx="6378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An addition or chan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Picture 7" descr=""/>
          <p:cNvPicPr/>
          <p:nvPr/>
        </p:nvPicPr>
        <p:blipFill>
          <a:blip r:embed="rId1"/>
          <a:stretch/>
        </p:blipFill>
        <p:spPr>
          <a:xfrm>
            <a:off x="2590920" y="0"/>
            <a:ext cx="4286160" cy="335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3"/>
          <p:cNvSpPr/>
          <p:nvPr/>
        </p:nvSpPr>
        <p:spPr>
          <a:xfrm>
            <a:off x="609480" y="205740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When people can’t see oth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who they really are. It is called..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Jeopordy Theme.wav" descr=""/>
          <p:cNvPicPr/>
          <p:nvPr/>
        </p:nvPicPr>
        <p:blipFill>
          <a:blip r:embed="rId1"/>
          <a:stretch/>
        </p:blipFill>
        <p:spPr>
          <a:xfrm>
            <a:off x="6248520" y="46483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32094" fill="hold"/>
                                        <p:tgtEl>
                                          <p:spTgt spid="6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2"/>
          <p:cNvSpPr/>
          <p:nvPr/>
        </p:nvSpPr>
        <p:spPr>
          <a:xfrm>
            <a:off x="914400" y="3200400"/>
            <a:ext cx="6705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5"/>
          <p:cNvSpPr/>
          <p:nvPr/>
        </p:nvSpPr>
        <p:spPr>
          <a:xfrm>
            <a:off x="97920" y="3124080"/>
            <a:ext cx="4312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Prejudi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4" name="Picture 7" descr="C:\Users\ssanders\Desktop\Jeopardy\images-9.jpg"/>
          <p:cNvPicPr/>
          <p:nvPr/>
        </p:nvPicPr>
        <p:blipFill>
          <a:blip r:embed="rId1"/>
          <a:stretch/>
        </p:blipFill>
        <p:spPr>
          <a:xfrm>
            <a:off x="2743200" y="914400"/>
            <a:ext cx="3371760" cy="220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660240" y="914400"/>
            <a:ext cx="7874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The Freedmen’s Bureau wa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arted after slaves were set free because..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Jeopordy Theme.wav" descr=""/>
          <p:cNvPicPr/>
          <p:nvPr/>
        </p:nvPicPr>
        <p:blipFill>
          <a:blip r:embed="rId1"/>
          <a:stretch/>
        </p:blipFill>
        <p:spPr>
          <a:xfrm>
            <a:off x="4419720" y="41911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648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648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32094" fill="hold"/>
                                        <p:tgtEl>
                                          <p:spTgt spid="6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5"/>
          <p:cNvSpPr/>
          <p:nvPr/>
        </p:nvSpPr>
        <p:spPr>
          <a:xfrm>
            <a:off x="1523880" y="1295280"/>
            <a:ext cx="7162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They helped blacks find jobs, homes, schools, family members, etc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3" name="Picture 6" descr=""/>
          <p:cNvPicPr/>
          <p:nvPr/>
        </p:nvPicPr>
        <p:blipFill>
          <a:blip r:embed="rId1"/>
          <a:stretch/>
        </p:blipFill>
        <p:spPr>
          <a:xfrm>
            <a:off x="1600200" y="3809880"/>
            <a:ext cx="3857760" cy="2818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1026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1028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1029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030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031"/>
          <p:cNvSpPr/>
          <p:nvPr/>
        </p:nvSpPr>
        <p:spPr>
          <a:xfrm>
            <a:off x="317520" y="3200400"/>
            <a:ext cx="505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The Constitu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8" descr="C:\Users\ssanders\Desktop\Jeopardy\images-10.jpg"/>
          <p:cNvPicPr/>
          <p:nvPr/>
        </p:nvPicPr>
        <p:blipFill>
          <a:blip r:embed="rId1"/>
          <a:stretch/>
        </p:blipFill>
        <p:spPr>
          <a:xfrm>
            <a:off x="4572000" y="0"/>
            <a:ext cx="3772080" cy="3511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3"/>
          <p:cNvSpPr/>
          <p:nvPr/>
        </p:nvSpPr>
        <p:spPr>
          <a:xfrm>
            <a:off x="1135080" y="685800"/>
            <a:ext cx="7628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a group of African Americans went into a segregated place of business to protest peaceful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Jeopordy Theme.wav" descr=""/>
          <p:cNvPicPr/>
          <p:nvPr/>
        </p:nvPicPr>
        <p:blipFill>
          <a:blip r:embed="rId1"/>
          <a:stretch/>
        </p:blipFill>
        <p:spPr>
          <a:xfrm>
            <a:off x="4419720" y="3733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656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656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2094" fill="hold"/>
                                        <p:tgtEl>
                                          <p:spTgt spid="6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5220720" y="4691160"/>
            <a:ext cx="270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“sit-in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Picture 8" descr="C:\Users\ssanders\Desktop\Jeopardy\CI010B.jpg"/>
          <p:cNvPicPr/>
          <p:nvPr/>
        </p:nvPicPr>
        <p:blipFill>
          <a:blip r:embed="rId1"/>
          <a:stretch/>
        </p:blipFill>
        <p:spPr>
          <a:xfrm>
            <a:off x="838080" y="457200"/>
            <a:ext cx="3810240" cy="3747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4"/>
          <p:cNvSpPr/>
          <p:nvPr/>
        </p:nvSpPr>
        <p:spPr>
          <a:xfrm>
            <a:off x="380880" y="3048120"/>
            <a:ext cx="84837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ue or False?  When Addy missed some worms, the overseer punished her by dropping the worms down her back.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Jeopordy Theme.wav" descr=""/>
          <p:cNvPicPr/>
          <p:nvPr/>
        </p:nvPicPr>
        <p:blipFill>
          <a:blip r:embed="rId1"/>
          <a:stretch/>
        </p:blipFill>
        <p:spPr>
          <a:xfrm>
            <a:off x="4343400" y="1523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665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665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32094" fill="hold"/>
                                        <p:tgtEl>
                                          <p:spTgt spid="6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5"/>
          <p:cNvSpPr/>
          <p:nvPr/>
        </p:nvSpPr>
        <p:spPr>
          <a:xfrm>
            <a:off x="1151640" y="3429000"/>
            <a:ext cx="153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Picture 8" descr="C:\Users\ssanders\Desktop\Jeopardy\images-15.jpg"/>
          <p:cNvPicPr/>
          <p:nvPr/>
        </p:nvPicPr>
        <p:blipFill>
          <a:blip r:embed="rId1"/>
          <a:stretch/>
        </p:blipFill>
        <p:spPr>
          <a:xfrm>
            <a:off x="5257800" y="2133720"/>
            <a:ext cx="2314440" cy="2144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4"/>
          <p:cNvSpPr/>
          <p:nvPr/>
        </p:nvSpPr>
        <p:spPr>
          <a:xfrm>
            <a:off x="898560" y="4876920"/>
            <a:ext cx="70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5"/>
          <p:cNvSpPr/>
          <p:nvPr/>
        </p:nvSpPr>
        <p:spPr>
          <a:xfrm>
            <a:off x="743760" y="3048120"/>
            <a:ext cx="6971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ddy overheard her pare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ispering abou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Jeopordy Theme.wav" descr=""/>
          <p:cNvPicPr/>
          <p:nvPr/>
        </p:nvPicPr>
        <p:blipFill>
          <a:blip r:embed="rId1"/>
          <a:stretch/>
        </p:blipFill>
        <p:spPr>
          <a:xfrm>
            <a:off x="4419720" y="16765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674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32094" fill="hold"/>
                                        <p:tgtEl>
                                          <p:spTgt spid="6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5"/>
          <p:cNvSpPr/>
          <p:nvPr/>
        </p:nvSpPr>
        <p:spPr>
          <a:xfrm>
            <a:off x="1779120" y="3200400"/>
            <a:ext cx="580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caping the plant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Picture 7" descr="C:\Users\ssanders\Desktop\Jeopardy\escape.jpg"/>
          <p:cNvPicPr/>
          <p:nvPr/>
        </p:nvPicPr>
        <p:blipFill>
          <a:blip r:embed="rId1"/>
          <a:stretch/>
        </p:blipFill>
        <p:spPr>
          <a:xfrm>
            <a:off x="6172200" y="304920"/>
            <a:ext cx="2436840" cy="3051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477360" y="3276720"/>
            <a:ext cx="6209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 was Harriet cry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church basemen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3" name="Jeopordy Theme.wav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683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683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32094" fill="hold"/>
                                        <p:tgtEl>
                                          <p:spTgt spid="6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5"/>
          <p:cNvSpPr/>
          <p:nvPr/>
        </p:nvSpPr>
        <p:spPr>
          <a:xfrm>
            <a:off x="1165680" y="3429000"/>
            <a:ext cx="495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r uncle had di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Picture 7" descr="C:\Users\ssanders\Desktop\Jeopardy\alone,black,and,white,depressed,girl,hair,sad-c12869d819b7ff5009a894d6b3bfc265_m.jpg"/>
          <p:cNvPicPr/>
          <p:nvPr/>
        </p:nvPicPr>
        <p:blipFill>
          <a:blip r:embed="rId1"/>
          <a:stretch/>
        </p:blipFill>
        <p:spPr>
          <a:xfrm>
            <a:off x="3429000" y="533520"/>
            <a:ext cx="1828800" cy="1562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3"/>
          <p:cNvSpPr/>
          <p:nvPr/>
        </p:nvSpPr>
        <p:spPr>
          <a:xfrm>
            <a:off x="18000" y="2743200"/>
            <a:ext cx="7700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did Addy read at churc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 New Year’s Eve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Jeopordy Theme.wav" descr=""/>
          <p:cNvPicPr/>
          <p:nvPr/>
        </p:nvPicPr>
        <p:blipFill>
          <a:blip r:embed="rId1"/>
          <a:stretch/>
        </p:blipFill>
        <p:spPr>
          <a:xfrm>
            <a:off x="4419720" y="4267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691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691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32094" fill="hold"/>
                                        <p:tgtEl>
                                          <p:spTgt spid="6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5"/>
          <p:cNvSpPr/>
          <p:nvPr/>
        </p:nvSpPr>
        <p:spPr>
          <a:xfrm>
            <a:off x="1817280" y="2895480"/>
            <a:ext cx="5531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Emancip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oclam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6" name="Picture 8" descr="C:\Users\ssanders\Desktop\Jeopardy\The_Emancipation_Proclamation.jpg"/>
          <p:cNvPicPr/>
          <p:nvPr/>
        </p:nvPicPr>
        <p:blipFill>
          <a:blip r:embed="rId1"/>
          <a:stretch/>
        </p:blipFill>
        <p:spPr>
          <a:xfrm>
            <a:off x="304920" y="304920"/>
            <a:ext cx="2404800" cy="3276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506160" y="2362320"/>
            <a:ext cx="828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What were the first 10 Amendments to the Constitution cal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Jeopordy Theme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2094" fill="hold"/>
                                        <p:tgtEl>
                                          <p:spTgt spid="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4"/>
          <p:cNvSpPr/>
          <p:nvPr/>
        </p:nvSpPr>
        <p:spPr>
          <a:xfrm>
            <a:off x="1274760" y="3429000"/>
            <a:ext cx="775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were Momma and Add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aving their money to bu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Jeopordy Theme.wav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700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700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32094" fill="hold"/>
                                        <p:tgtEl>
                                          <p:spTgt spid="7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5"/>
          <p:cNvSpPr/>
          <p:nvPr/>
        </p:nvSpPr>
        <p:spPr>
          <a:xfrm>
            <a:off x="738000" y="3809880"/>
            <a:ext cx="1501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i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Picture 7" descr="C:\Users\ssanders\Desktop\Jeopardy\images-14.jpg"/>
          <p:cNvPicPr/>
          <p:nvPr/>
        </p:nvPicPr>
        <p:blipFill>
          <a:blip r:embed="rId1"/>
          <a:stretch/>
        </p:blipFill>
        <p:spPr>
          <a:xfrm>
            <a:off x="3962520" y="1143000"/>
            <a:ext cx="3238560" cy="3211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2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3"/>
          <p:cNvSpPr/>
          <p:nvPr/>
        </p:nvSpPr>
        <p:spPr>
          <a:xfrm>
            <a:off x="1089360" y="3505320"/>
            <a:ext cx="690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other name for a slav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ster was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8" name="Jeopordy Theme.wav" descr=""/>
          <p:cNvPicPr/>
          <p:nvPr/>
        </p:nvPicPr>
        <p:blipFill>
          <a:blip r:embed="rId1"/>
          <a:stretch/>
        </p:blipFill>
        <p:spPr>
          <a:xfrm>
            <a:off x="4495680" y="20574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708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708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32094" fill="hold"/>
                                        <p:tgtEl>
                                          <p:spTgt spid="7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2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5"/>
          <p:cNvSpPr/>
          <p:nvPr/>
        </p:nvSpPr>
        <p:spPr>
          <a:xfrm>
            <a:off x="647280" y="3276720"/>
            <a:ext cx="243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Mar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Picture 8" descr="C:\Users\ssanders\Desktop\Jeopardy\master_slave_mid.jpg"/>
          <p:cNvPicPr/>
          <p:nvPr/>
        </p:nvPicPr>
        <p:blipFill>
          <a:blip r:embed="rId1"/>
          <a:stretch/>
        </p:blipFill>
        <p:spPr>
          <a:xfrm>
            <a:off x="3809880" y="849240"/>
            <a:ext cx="3686400" cy="2255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4"/>
          <p:cNvSpPr/>
          <p:nvPr/>
        </p:nvSpPr>
        <p:spPr>
          <a:xfrm>
            <a:off x="336600" y="1828800"/>
            <a:ext cx="8807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What woman was an ex-slave who, after escaping, returned at least 13 times to help slaves escape on the Underground Railroad?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Jeopordy Theme.wav" descr=""/>
          <p:cNvPicPr/>
          <p:nvPr/>
        </p:nvPicPr>
        <p:blipFill>
          <a:blip r:embed="rId1"/>
          <a:stretch/>
        </p:blipFill>
        <p:spPr>
          <a:xfrm>
            <a:off x="4419720" y="4876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717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717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32094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5"/>
          <p:cNvSpPr/>
          <p:nvPr/>
        </p:nvSpPr>
        <p:spPr>
          <a:xfrm>
            <a:off x="1922760" y="3276720"/>
            <a:ext cx="409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rriet Tubm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2" name="Picture 7" descr=""/>
          <p:cNvPicPr/>
          <p:nvPr/>
        </p:nvPicPr>
        <p:blipFill>
          <a:blip r:embed="rId1"/>
          <a:stretch/>
        </p:blipFill>
        <p:spPr>
          <a:xfrm>
            <a:off x="380880" y="0"/>
            <a:ext cx="3048120" cy="3414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4"/>
          <p:cNvSpPr/>
          <p:nvPr/>
        </p:nvSpPr>
        <p:spPr>
          <a:xfrm>
            <a:off x="1563120" y="2971800"/>
            <a:ext cx="587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year did the Civil War start and e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6" name="Jeopordy Theme.wav" descr=""/>
          <p:cNvPicPr/>
          <p:nvPr/>
        </p:nvPicPr>
        <p:blipFill>
          <a:blip r:embed="rId1"/>
          <a:stretch/>
        </p:blipFill>
        <p:spPr>
          <a:xfrm>
            <a:off x="4495680" y="40384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9" dur="indefinite" restart="never" nodeType="tmRoot">
          <p:childTnLst>
            <p:seq>
              <p:cTn id="140" restart="whenNotActive" nodeType="interactiveSeq" fill="hold">
                <p:stCondLst>
                  <p:cond evt="onClick">
                    <p:tgtEl>
                      <p:spTgt spid="726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726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32094" fill="hold"/>
                                        <p:tgtEl>
                                          <p:spTgt spid="7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5"/>
          <p:cNvSpPr/>
          <p:nvPr/>
        </p:nvSpPr>
        <p:spPr>
          <a:xfrm>
            <a:off x="2771280" y="3200400"/>
            <a:ext cx="282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861-186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7" descr=""/>
          <p:cNvPicPr/>
          <p:nvPr/>
        </p:nvPicPr>
        <p:blipFill>
          <a:blip r:embed="rId1"/>
          <a:stretch/>
        </p:blipFill>
        <p:spPr>
          <a:xfrm>
            <a:off x="1600200" y="0"/>
            <a:ext cx="5429160" cy="3324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4"/>
          <p:cNvSpPr/>
          <p:nvPr/>
        </p:nvSpPr>
        <p:spPr>
          <a:xfrm>
            <a:off x="1493640" y="2895480"/>
            <a:ext cx="557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it called when you protest by no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or doing 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Jeopordy Theme.wav" descr=""/>
          <p:cNvPicPr/>
          <p:nvPr/>
        </p:nvPicPr>
        <p:blipFill>
          <a:blip r:embed="rId1"/>
          <a:stretch/>
        </p:blipFill>
        <p:spPr>
          <a:xfrm>
            <a:off x="4267080" y="37339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45" dur="indefinite" restart="never" nodeType="tmRoot">
          <p:childTnLst>
            <p:seq>
              <p:cTn id="146" restart="whenNotActive" nodeType="interactiveSeq" fill="hold">
                <p:stCondLst>
                  <p:cond evt="onClick">
                    <p:tgtEl>
                      <p:spTgt spid="735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735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32094" fill="hold"/>
                                        <p:tgtEl>
                                          <p:spTgt spid="7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5"/>
          <p:cNvSpPr/>
          <p:nvPr/>
        </p:nvSpPr>
        <p:spPr>
          <a:xfrm>
            <a:off x="1483560" y="3200400"/>
            <a:ext cx="543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boyco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: The Montgomery Bus Boyco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Picture 7" descr=""/>
          <p:cNvPicPr/>
          <p:nvPr/>
        </p:nvPicPr>
        <p:blipFill>
          <a:blip r:embed="rId1"/>
          <a:stretch/>
        </p:blipFill>
        <p:spPr>
          <a:xfrm>
            <a:off x="2895480" y="838080"/>
            <a:ext cx="2905200" cy="2076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1698840" y="3581280"/>
            <a:ext cx="426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Bill of Righ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8" descr="C:\Users\ssanders\Desktop\Jeopardy\images-1.jpg"/>
          <p:cNvPicPr/>
          <p:nvPr/>
        </p:nvPicPr>
        <p:blipFill>
          <a:blip r:embed="rId1"/>
          <a:stretch/>
        </p:blipFill>
        <p:spPr>
          <a:xfrm>
            <a:off x="2514600" y="228600"/>
            <a:ext cx="3809880" cy="3451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4"/>
          <p:cNvSpPr/>
          <p:nvPr/>
        </p:nvSpPr>
        <p:spPr>
          <a:xfrm>
            <a:off x="474840" y="1447920"/>
            <a:ext cx="8897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Rosa Parks, Martin Luther King Jr. and many other African Americans stood u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ir rights. They led what movemen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Jeopordy Theme.wav" descr=""/>
          <p:cNvPicPr/>
          <p:nvPr/>
        </p:nvPicPr>
        <p:blipFill>
          <a:blip r:embed="rId1"/>
          <a:stretch/>
        </p:blipFill>
        <p:spPr>
          <a:xfrm>
            <a:off x="6705720" y="44956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744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744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32094" fill="hold"/>
                                        <p:tgtEl>
                                          <p:spTgt spid="7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5"/>
          <p:cNvSpPr/>
          <p:nvPr/>
        </p:nvSpPr>
        <p:spPr>
          <a:xfrm>
            <a:off x="1630440" y="3581280"/>
            <a:ext cx="6092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ivil Rights Moveme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9" name="Picture 7" descr="C:\Users\ssanders\Desktop\Jeopardy\51YYFA37PXL._SL500_AA240_.jpg"/>
          <p:cNvPicPr/>
          <p:nvPr/>
        </p:nvPicPr>
        <p:blipFill>
          <a:blip r:embed="rId1"/>
          <a:stretch/>
        </p:blipFill>
        <p:spPr>
          <a:xfrm>
            <a:off x="3505320" y="457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514800" y="2895480"/>
            <a:ext cx="7023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Which amendment gav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laves their freedo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Jeopordy Theme.wav" descr=""/>
          <p:cNvPicPr/>
          <p:nvPr/>
        </p:nvPicPr>
        <p:blipFill>
          <a:blip r:embed="rId1"/>
          <a:stretch/>
        </p:blipFill>
        <p:spPr>
          <a:xfrm>
            <a:off x="4572000" y="45720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2094" fill="hold"/>
                                        <p:tgtEl>
                                          <p:spTgt spid="5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463680" y="3505320"/>
            <a:ext cx="471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Amendment 1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8" descr="C:\Users\ssanders\Desktop\Jeopardy\images-2.jpg"/>
          <p:cNvPicPr/>
          <p:nvPr/>
        </p:nvPicPr>
        <p:blipFill>
          <a:blip r:embed="rId1"/>
          <a:stretch/>
        </p:blipFill>
        <p:spPr>
          <a:xfrm>
            <a:off x="5715000" y="685800"/>
            <a:ext cx="2971800" cy="3838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1395000" y="2895480"/>
            <a:ext cx="6214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: Laws that were passed to keep Afric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ericans from having the same r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whites w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Jeopordy Theme.wav" descr=""/>
          <p:cNvPicPr/>
          <p:nvPr/>
        </p:nvPicPr>
        <p:blipFill>
          <a:blip r:embed="rId1"/>
          <a:stretch/>
        </p:blipFill>
        <p:spPr>
          <a:xfrm>
            <a:off x="4572000" y="45720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2094" fill="hold"/>
                                        <p:tgtEl>
                                          <p:spTgt spid="5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1717920" y="2743200"/>
            <a:ext cx="4956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Jim Crow Law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7" descr="C:\Users\ssanders\Desktop\Jeopardy\jimcrowexample.jpg"/>
          <p:cNvPicPr/>
          <p:nvPr/>
        </p:nvPicPr>
        <p:blipFill>
          <a:blip r:embed="rId1"/>
          <a:stretch/>
        </p:blipFill>
        <p:spPr>
          <a:xfrm>
            <a:off x="2971800" y="3809880"/>
            <a:ext cx="3809880" cy="2546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Teacher</cp:lastModifiedBy>
  <dcterms:modified xsi:type="dcterms:W3CDTF">2010-08-10T00:56:56Z</dcterms:modified>
  <cp:revision>109</cp:revision>
  <dc:subject/>
  <dc:title>Blank Jeopardy</dc:title>
</cp:coreProperties>
</file>