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86FD-317E-4A90-B5C4-E3D85E900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BA17-CBE9-446B-9830-D7A706A3B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55C2-FF0B-4083-80D3-0AE71FC05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3662-DAB7-42D0-BA36-C4B636AB6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347-0F39-46FC-98D0-40E296EB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75A-E76D-42E0-B5EB-9EC4F5FC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C60F8-E547-400F-8B7F-440E9ED3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B039C-A234-4E97-9C71-37F53066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5AF80-BAC8-454D-8213-4E4E7B66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F05DC-9075-45D9-BB7B-70004A12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F4C9A-2503-4323-B3DD-00DEC14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3341B-79FD-414E-81F1-E7519E9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A9D43-588F-4CE2-BA2B-C1CB6A5D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BFD35-D409-4B18-9D98-AA256DE2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6FC58-79C0-464A-8279-0087AC95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4DD29-19F2-4C80-837F-B663D20C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F2A-4ABE-44DC-A16D-5E46B198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340AE-21C4-4421-8409-8F87CD8C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F248F-09A9-4EA5-959B-B95FC901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021C0-46A1-4A5B-81B8-D103DDE7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7CDF6-8C60-46FE-9D39-F4D4CD0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DBFC2-A0EE-4AEC-8877-260AF423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9C68F-A817-4A04-91FB-E3386BCA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DD296-9870-4BD6-AEC8-0EBEDB1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30668-C38B-4137-A81E-904A6871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076F7-5922-414B-9DD4-B077C703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2A76A-0BA2-4FD9-AF4C-3878DE6F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1B5-DA2B-47CF-A732-94B45FDE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206AF-C86F-4009-BA83-8738D9BA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E8AD6-8628-429F-92B9-696DEDF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D80D5-CF14-4362-8A56-716B2ACC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89911-1ACF-4C4C-B2F8-279FD006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2B3C9-38FE-426C-AF59-75207A05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0E6CE-F773-45ED-86E0-6113032F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076D5-3C53-460D-9447-41F67CC1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49FF3-3D5F-4FE1-B1BB-92CBFA31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B824A-F937-4B20-A044-7CA55088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339FF-2CC3-496F-A438-E90205D9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656E-1BC9-44F4-822E-18EB7EE4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D5D99-618B-44BC-BD34-CB4AB99B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D10D9-B73C-4822-8D4B-7064A718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90A3E-84CF-4677-80CA-B9855836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E9ED1-A8DC-4325-8F80-E2DB9206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77691-B072-43D3-B34D-471F2F3E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F2453-BA70-430C-A3CB-EB931CBA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13C4D-5BE4-49CB-80C7-578D6A57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41783-C64F-400E-9A64-39729115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4BB99-6BAA-411B-BE9F-8C147494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4C6E0-A14B-42B3-A2B1-B069613F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B138-2C28-4807-94F4-8E584ADA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B6AD0-8D8A-496C-8F61-D9FA9BE3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5C626-2252-4C4E-B569-32180D0F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B10E9-0E34-43E7-BED8-4EE13B0B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D62E1-2DC1-4A11-826F-58F79322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A0979-7AB6-4A5D-ACFD-DF525382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2069-9EE4-4B80-A2DA-1401ECAB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6231-4829-4197-887D-684F3EAE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E656-D325-4CD2-9B8A-D41C0380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8F37-2E1F-49B5-A435-3664C558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2E12-7D5C-4A2B-9A23-C61459CD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E1E-199D-43EC-986D-E751D995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956F-58D0-4857-BA56-5D2CCC15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49D6-B770-4C1B-8E72-CAC3EBFB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F987-0AF1-4552-BDA6-D8845989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40ED-90D9-45A8-B0C7-803D5C17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575D-8849-41E7-B301-783E1B8A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B378-E9FA-4EA5-BFEF-FF45A33C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38297-E2E0-45D2-8809-4CB4C7E5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190F-C79D-40A7-B152-08553E57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8694F-9DF4-44C7-87CB-DA76C7C2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C1AD-FE92-4F8A-99BF-0AFAD814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651-0685-4E82-85B9-E7E0C97E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1D44-9BD9-4B2E-A8E3-E3B1CAF1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FADA-C438-41A3-AA6B-1D894C62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BE92-89ED-4E51-90D8-7B695557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0AA28-54CF-4591-8064-4D057D1F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55C3-AE6A-4A7A-9A08-A4AE5D82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71E4-3F68-4DC7-BF92-05307EEC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6B40-B3BA-445F-BF07-BE0852ED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F9A35-CB2A-468E-A341-4C88015D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858D7-42A7-47B8-B13D-301CDC40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8BD6-AE8A-43B1-94F5-8F19CAAD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8BB-EC6D-45A0-9EF1-BD4021A0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1BBED-5250-491E-B343-9509869D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00A39-37A7-4C7F-9FA8-EF14DCBF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D88C-358B-49E5-AD7D-80203547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AC144-C050-49A4-BF2B-FA853C77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1365-7845-4D10-BC4F-B302E94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80A5-73E0-4440-9185-E113B931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6BF7-CE60-41F6-B535-25EC9574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137FB-0AE0-4D0C-954E-E9CC8A8A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5E5F6-DF54-4CD2-8689-84B25F6B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2FED6-C719-444B-8AEA-7DA12E52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743-8346-4E71-8DF9-6279462B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F2C53-5478-4244-A5A8-3727B30E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42345-C969-4691-8E71-0BF10368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F1F02-83A7-4024-B1E5-9F280F05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1A59F-CF52-4BA5-92C9-DE3095D8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FC84B-6493-4977-88C4-A6DA5FEF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1E3BA-120F-49C6-8A83-90C3B733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54D14-921E-4174-84DE-43327862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DFE55-1EE4-4511-8871-BA555158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ACAF2-BE95-468D-8254-BAC4DB71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956BB-B18A-4EBE-964E-66F71672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694-7EA7-43D0-A4AD-D3B8CAB3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FF5A-4667-47CC-8EB3-82E5CD5F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5D085-4939-4E54-87B9-7E5968EC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E4A15-D51C-4184-993F-BFFB0EAD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FA695-805F-4007-8B11-27690CB4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2FD21-69A1-41A1-A364-A525C3FF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12A4-8F19-42D3-9F8A-CFF6BFA8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A791F-69A9-4DE6-9889-1AB2274C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5D225-2846-4AE2-B7EE-D27910DA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7B743-07D1-486A-AD4B-8D6FEA51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61038-73D0-4A05-B9C7-9C93C26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066-92FD-4417-A50F-EEBF736C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3B7FC-44FF-472D-A0E3-7E7F5EC7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E9598-2907-4118-8EEA-22C05D51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2D35C-A8ED-446D-A318-489999FF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63805-6C06-47B2-9488-951A6357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AF9F3-8929-474D-B115-828FDE12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67AD8-FB7C-424D-9D14-7F215A9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EA195-6EDA-4EAE-BFBF-E8CC756B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5202F-D211-4337-B309-C4A90B5F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79E61-7281-45AA-91CE-C8389B3C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CCF8C-8918-445A-AF8B-65D0E397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1A3-B6FB-4008-9DB8-5A65086C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497A4-C98C-457D-B4BA-0939CF5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ABA06-33C2-469D-A047-E673A7A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CA3DE-FB4D-41DF-B190-2C490B3D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8D9E8-E15C-4161-9BC6-039818B8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DEA4D-84AF-4CE0-A7CA-5F014103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F5B12-A4FD-464C-9161-C68ADF43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FEE26-19BC-4521-8C7A-C55F61BF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5D96C-429D-44E1-964C-3CED94C6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BEE6-6339-41F5-A55F-FDEC5CB3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2A594-20B4-4A12-AB7B-13F99037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29A-2322-4185-9D56-E16651A7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B0677-C3A3-4129-82FA-D46CBD29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C5374-0C16-4234-804A-96DDD973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E2503-81F9-47F8-B865-CAF22176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59186-C67E-4A48-AD2B-ABB9F598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BC6C9-68A0-4207-989F-4D9021EF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F3AE7-1C1B-4346-A15B-44FB1434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C7278-A2F2-4E8B-8399-9D6F289C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2DD2A-99A3-44B2-8456-AA0288C0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0BA74-93D5-4160-90A9-0F5A638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2F5E0-117E-468C-B418-AFD6928D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A4A5-EF36-4075-87DB-91ECC5B0E5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A4AD-0737-49F6-95D2-F9D3EDE83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771E-1818-4F77-BA9B-8A03B1567E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6E03-5B80-489A-B681-FF9F320F0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193-658E-447D-B9CD-AA76BC675B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D7D5-3862-419B-AC9C-55566346B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DCDD-B93E-4256-98C3-6DCDF9DAEA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CA84-2C03-4B18-BD2C-0C78A1DAC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76C5-96B3-4FE4-97B6-5FCE0053524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11C4-E22D-47A1-8DFF-705EA6D00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359C-0479-472A-AD25-D8234A518FB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B049-874B-4A02-BB93-5B154477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FF76-3904-442B-9400-A96E239C7C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E543-2E3F-487B-8F7D-D6E7E79C8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A837-07C6-4440-B160-F1660E8F32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8F6C-83F2-4C25-9BEA-BB32B021C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DFF0-972F-4F33-9E01-C2A87AEB135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F3FC-9647-4921-BD81-53DF9F7A4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58B7-3BDD-4D89-B573-723C619FF2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5052-5C59-43FB-BE2B-567677DB2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887A-1EA4-4189-A0B6-EEEE35CAF4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DE61-749C-486D-84F2-3461AACBE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334D-890E-4B9E-BDB3-5F14059F38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D1FC-7ED5-43BB-87F7-5CDC1D02D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image" Target="../media/image1.png"/><Relationship Id="rId3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22"/>
          <p:cNvSpPr/>
          <p:nvPr/>
        </p:nvSpPr>
        <p:spPr>
          <a:xfrm>
            <a:off x="6159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Jeopordy Theme.wav" descr=""/>
          <p:cNvPicPr/>
          <p:nvPr/>
        </p:nvPicPr>
        <p:blipFill>
          <a:blip r:embed="rId3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94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085040" y="1752480"/>
            <a:ext cx="725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ve African American 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to vo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Jeopordy Theme.wav" descr=""/>
          <p:cNvPicPr/>
          <p:nvPr/>
        </p:nvPicPr>
        <p:blipFill>
          <a:blip r:embed="rId1"/>
          <a:stretch/>
        </p:blipFill>
        <p:spPr>
          <a:xfrm>
            <a:off x="4572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2094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435240" y="365760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7" descr="C:\Users\ssanders\Desktop\Jeopardy\images-3.jpg"/>
          <p:cNvPicPr/>
          <p:nvPr/>
        </p:nvPicPr>
        <p:blipFill>
          <a:blip r:embed="rId1"/>
          <a:stretch/>
        </p:blipFill>
        <p:spPr>
          <a:xfrm>
            <a:off x="4724280" y="304920"/>
            <a:ext cx="3353040" cy="32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58040" y="3124080"/>
            <a:ext cx="68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ich President made it a law that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were free from slave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2094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764000" y="3429000"/>
            <a:ext cx="571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braham Lincol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C:\Users\ssanders\Desktop\Jeopardy\images-4.jpg"/>
          <p:cNvPicPr/>
          <p:nvPr/>
        </p:nvPicPr>
        <p:blipFill>
          <a:blip r:embed="rId1"/>
          <a:stretch/>
        </p:blipFill>
        <p:spPr>
          <a:xfrm>
            <a:off x="3429000" y="762120"/>
            <a:ext cx="2371680" cy="26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889920" y="3200400"/>
            <a:ext cx="663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o was the Af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who gave speeches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, gav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od to soldiers, and traveled around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the tru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Jeopordy Theme.wav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2094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686600" y="3581280"/>
            <a:ext cx="485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ojourner Tru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7" descr="C:\Users\ssanders\Desktop\Jeopardy\images-5.jpg"/>
          <p:cNvPicPr/>
          <p:nvPr/>
        </p:nvPicPr>
        <p:blipFill>
          <a:blip r:embed="rId1"/>
          <a:stretch/>
        </p:blipFill>
        <p:spPr>
          <a:xfrm>
            <a:off x="3352680" y="533520"/>
            <a:ext cx="2124360" cy="301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895320" y="3124080"/>
            <a:ext cx="745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ich African American traveled over 500 miles to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mpton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he wanted to be able to re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Jeopordy Theme.wav" descr=""/>
          <p:cNvPicPr/>
          <p:nvPr/>
        </p:nvPicPr>
        <p:blipFill>
          <a:blip r:embed="rId1"/>
          <a:stretch/>
        </p:blipFill>
        <p:spPr>
          <a:xfrm>
            <a:off x="4495680" y="4800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2094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-27360" y="3505320"/>
            <a:ext cx="65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ooker T. Washingt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7" descr="C:\Users\ssanders\Desktop\Jeopardy\images-6.jpg"/>
          <p:cNvPicPr/>
          <p:nvPr/>
        </p:nvPicPr>
        <p:blipFill>
          <a:blip r:embed="rId1"/>
          <a:stretch/>
        </p:blipFill>
        <p:spPr>
          <a:xfrm>
            <a:off x="3962520" y="304920"/>
            <a:ext cx="2238120" cy="331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80880" y="1447920"/>
            <a:ext cx="744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o wrote in a newspaper about freedom and was the first African American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n for public office in the United Stat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Jeopordy Theme.wav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2094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2122200" y="3352680"/>
            <a:ext cx="40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Ida B. W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085840" cy="260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27720" y="3124080"/>
            <a:ext cx="867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What is the important document that wa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787 as the basic rule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count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Jeopordy Theme.wav" descr=""/>
          <p:cNvPicPr/>
          <p:nvPr/>
        </p:nvPicPr>
        <p:blipFill>
          <a:blip r:embed="rId1"/>
          <a:stretch/>
        </p:blipFill>
        <p:spPr>
          <a:xfrm>
            <a:off x="41911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094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-990720" y="762120"/>
            <a:ext cx="1112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o was the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started a school for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rls which later became a colle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elped President Roosevelt during the G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?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2094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990720" y="236232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Mary McLeod Bethu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6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200320" cy="321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575640" y="3124080"/>
            <a:ext cx="87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are separated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given equal rights it is called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Jeopordy Theme.wav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2094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609480" y="3657600"/>
            <a:ext cx="651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egregat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7" descr="C:\Users\ssanders\Desktop\Jeopardy\images-12.jpg"/>
          <p:cNvPicPr/>
          <p:nvPr/>
        </p:nvPicPr>
        <p:blipFill>
          <a:blip r:embed="rId1"/>
          <a:stretch/>
        </p:blipFill>
        <p:spPr>
          <a:xfrm>
            <a:off x="2819520" y="685800"/>
            <a:ext cx="2733480" cy="296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-38160" y="2743200"/>
            <a:ext cx="585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An amendment i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Jeopordy Theme.wav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2094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452880" y="3505320"/>
            <a:ext cx="637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n addition or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7" descr=""/>
          <p:cNvPicPr/>
          <p:nvPr/>
        </p:nvPicPr>
        <p:blipFill>
          <a:blip r:embed="rId1"/>
          <a:stretch/>
        </p:blipFill>
        <p:spPr>
          <a:xfrm>
            <a:off x="2590920" y="0"/>
            <a:ext cx="428616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609480" y="20574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can’t see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ho they really are. It is called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Jeopordy Theme.wav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2094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914400" y="3200400"/>
            <a:ext cx="670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97920" y="3124080"/>
            <a:ext cx="431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Prejud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7" descr="C:\Users\ssanders\Desktop\Jeopardy\images-9.jpg"/>
          <p:cNvPicPr/>
          <p:nvPr/>
        </p:nvPicPr>
        <p:blipFill>
          <a:blip r:embed="rId1"/>
          <a:stretch/>
        </p:blipFill>
        <p:spPr>
          <a:xfrm>
            <a:off x="2743200" y="914400"/>
            <a:ext cx="3371760" cy="22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60240" y="914400"/>
            <a:ext cx="787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The Freedmen’s Bureau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rted after slaves were set free because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Jeopordy Theme.wav" descr=""/>
          <p:cNvPicPr/>
          <p:nvPr/>
        </p:nvPicPr>
        <p:blipFill>
          <a:blip r:embed="rId1"/>
          <a:stretch/>
        </p:blipFill>
        <p:spPr>
          <a:xfrm>
            <a:off x="4419720" y="4191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2094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523880" y="129528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y helped blacks find jobs, homes, schools, family members, et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6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3857760" cy="281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026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028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30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31"/>
          <p:cNvSpPr/>
          <p:nvPr/>
        </p:nvSpPr>
        <p:spPr>
          <a:xfrm>
            <a:off x="317520" y="320040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 Constit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8" descr="C:\Users\ssanders\Desktop\Jeopardy\images-10.jpg"/>
          <p:cNvPicPr/>
          <p:nvPr/>
        </p:nvPicPr>
        <p:blipFill>
          <a:blip r:embed="rId1"/>
          <a:stretch/>
        </p:blipFill>
        <p:spPr>
          <a:xfrm>
            <a:off x="4572000" y="0"/>
            <a:ext cx="3772080" cy="351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1135080" y="685800"/>
            <a:ext cx="762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a group of African Americans went into a segregated place of business to protest peace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Jeopordy Theme.wav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2094" fill="hold"/>
                                        <p:tgtEl>
                                          <p:spTgt spid="6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5220720" y="4691160"/>
            <a:ext cx="270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“sit-in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8" descr="C:\Users\ssanders\Desktop\Jeopardy\CI010B.jpg"/>
          <p:cNvPicPr/>
          <p:nvPr/>
        </p:nvPicPr>
        <p:blipFill>
          <a:blip r:embed="rId1"/>
          <a:stretch/>
        </p:blipFill>
        <p:spPr>
          <a:xfrm>
            <a:off x="838080" y="457200"/>
            <a:ext cx="3810240" cy="37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380880" y="3048120"/>
            <a:ext cx="8483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 or False?  When Addy missed some worms, the overseer punished her by dropping the worms down her back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Jeopordy Theme.wav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2094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151640" y="34290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8" descr="C:\Users\ssanders\Desktop\Jeopardy\images-15.jpg"/>
          <p:cNvPicPr/>
          <p:nvPr/>
        </p:nvPicPr>
        <p:blipFill>
          <a:blip r:embed="rId1"/>
          <a:stretch/>
        </p:blipFill>
        <p:spPr>
          <a:xfrm>
            <a:off x="5257800" y="2133720"/>
            <a:ext cx="2314440" cy="214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898560" y="487692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43760" y="304812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dy overheard her par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spering abou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Jeopordy Theme.wav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2094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779120" y="3200400"/>
            <a:ext cx="580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aping the plan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7" descr="C:\Users\ssanders\Desktop\Jeopardy\escape.jpg"/>
          <p:cNvPicPr/>
          <p:nvPr/>
        </p:nvPicPr>
        <p:blipFill>
          <a:blip r:embed="rId1"/>
          <a:stretch/>
        </p:blipFill>
        <p:spPr>
          <a:xfrm>
            <a:off x="6172200" y="304920"/>
            <a:ext cx="2436840" cy="30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477360" y="3276720"/>
            <a:ext cx="620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as Harriet cry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church bas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Jeopordy Theme.wav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2094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165680" y="3429000"/>
            <a:ext cx="495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 uncle had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7" descr="C:\Users\ssanders\Desktop\Jeopardy\alone,black,and,white,depressed,girl,hair,sad-c12869d819b7ff5009a894d6b3bfc265_m.jpg"/>
          <p:cNvPicPr/>
          <p:nvPr/>
        </p:nvPicPr>
        <p:blipFill>
          <a:blip r:embed="rId1"/>
          <a:stretch/>
        </p:blipFill>
        <p:spPr>
          <a:xfrm>
            <a:off x="3429000" y="53352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8000" y="2743200"/>
            <a:ext cx="77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id Addy read at chur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New Year’s Ev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Jeopordy Theme.wav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2094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1817280" y="2895480"/>
            <a:ext cx="553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mancip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cla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Picture 8" descr="C:\Users\ssanders\Desktop\Jeopardy\The_Emancipation_Proclamation.jpg"/>
          <p:cNvPicPr/>
          <p:nvPr/>
        </p:nvPicPr>
        <p:blipFill>
          <a:blip r:embed="rId1"/>
          <a:stretch/>
        </p:blipFill>
        <p:spPr>
          <a:xfrm>
            <a:off x="304920" y="304920"/>
            <a:ext cx="2404800" cy="327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506160" y="2362320"/>
            <a:ext cx="82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at were the first 10 Amendments to the Constitution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2094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274760" y="342900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re Momma and Ad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ing their money to bu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Jeopordy Theme.wav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2094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738000" y="3809880"/>
            <a:ext cx="150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7" descr="C:\Users\ssanders\Desktop\Jeopardy\images-14.jpg"/>
          <p:cNvPicPr/>
          <p:nvPr/>
        </p:nvPicPr>
        <p:blipFill>
          <a:blip r:embed="rId1"/>
          <a:stretch/>
        </p:blipFill>
        <p:spPr>
          <a:xfrm>
            <a:off x="3962520" y="1143000"/>
            <a:ext cx="3238560" cy="3211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1089360" y="3505320"/>
            <a:ext cx="690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name for a sl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ster wa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Jeopordy Theme.wav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2094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647280" y="3276720"/>
            <a:ext cx="243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Mar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8" descr="C:\Users\ssanders\Desktop\Jeopardy\master_slave_mid.jpg"/>
          <p:cNvPicPr/>
          <p:nvPr/>
        </p:nvPicPr>
        <p:blipFill>
          <a:blip r:embed="rId1"/>
          <a:stretch/>
        </p:blipFill>
        <p:spPr>
          <a:xfrm>
            <a:off x="3809880" y="849240"/>
            <a:ext cx="3686400" cy="22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336600" y="1828800"/>
            <a:ext cx="8807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at woman was an ex-slave who, after escaping, returned at least 13 times to help slaves escape on the Underground Railroad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Jeopordy Theme.wav" descr=""/>
          <p:cNvPicPr/>
          <p:nvPr/>
        </p:nvPicPr>
        <p:blipFill>
          <a:blip r:embed="rId1"/>
          <a:stretch/>
        </p:blipFill>
        <p:spPr>
          <a:xfrm>
            <a:off x="4419720" y="4876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2094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922760" y="3276720"/>
            <a:ext cx="409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1"/>
          <a:stretch/>
        </p:blipFill>
        <p:spPr>
          <a:xfrm>
            <a:off x="380880" y="0"/>
            <a:ext cx="3048120" cy="34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1563120" y="297180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year did the Civil War start and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Jeopordy Theme.wav" descr=""/>
          <p:cNvPicPr/>
          <p:nvPr/>
        </p:nvPicPr>
        <p:blipFill>
          <a:blip r:embed="rId1"/>
          <a:stretch/>
        </p:blipFill>
        <p:spPr>
          <a:xfrm>
            <a:off x="4495680" y="4038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32094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2771280" y="3200400"/>
            <a:ext cx="282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861-18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7" descr=""/>
          <p:cNvPicPr/>
          <p:nvPr/>
        </p:nvPicPr>
        <p:blipFill>
          <a:blip r:embed="rId1"/>
          <a:stretch/>
        </p:blipFill>
        <p:spPr>
          <a:xfrm>
            <a:off x="1600200" y="0"/>
            <a:ext cx="5429160" cy="332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493640" y="2895480"/>
            <a:ext cx="55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 called when you protest by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or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Jeopordy Theme.wav" descr=""/>
          <p:cNvPicPr/>
          <p:nvPr/>
        </p:nvPicPr>
        <p:blipFill>
          <a:blip r:embed="rId1"/>
          <a:stretch/>
        </p:blipFill>
        <p:spPr>
          <a:xfrm>
            <a:off x="4267080" y="3733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2094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1483560" y="32004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The Montgomery Bus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7" descr=""/>
          <p:cNvPicPr/>
          <p:nvPr/>
        </p:nvPicPr>
        <p:blipFill>
          <a:blip r:embed="rId1"/>
          <a:stretch/>
        </p:blipFill>
        <p:spPr>
          <a:xfrm>
            <a:off x="2895480" y="838080"/>
            <a:ext cx="2905200" cy="20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698840" y="3581280"/>
            <a:ext cx="426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ill of Righ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8" descr="C:\Users\ssanders\Desktop\Jeopardy\images-1.jpg"/>
          <p:cNvPicPr/>
          <p:nvPr/>
        </p:nvPicPr>
        <p:blipFill>
          <a:blip r:embed="rId1"/>
          <a:stretch/>
        </p:blipFill>
        <p:spPr>
          <a:xfrm>
            <a:off x="2514600" y="228600"/>
            <a:ext cx="3809880" cy="345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474840" y="1447920"/>
            <a:ext cx="8897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Rosa Parks, Martin Luther King Jr. and many other African Americans stood 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ir rights. They led what mov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Jeopordy Theme.wav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2094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630440" y="3581280"/>
            <a:ext cx="609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vil Rights Mov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7" descr="C:\Users\ssanders\Desktop\Jeopardy\51YYFA37PXL._SL500_AA240_.jpg"/>
          <p:cNvPicPr/>
          <p:nvPr/>
        </p:nvPicPr>
        <p:blipFill>
          <a:blip r:embed="rId1"/>
          <a:stretch/>
        </p:blipFill>
        <p:spPr>
          <a:xfrm>
            <a:off x="3505320" y="457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514800" y="2895480"/>
            <a:ext cx="7023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 g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laves their freed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094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63680" y="350532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8" descr="C:\Users\ssanders\Desktop\Jeopardy\images-2.jpg"/>
          <p:cNvPicPr/>
          <p:nvPr/>
        </p:nvPicPr>
        <p:blipFill>
          <a:blip r:embed="rId1"/>
          <a:stretch/>
        </p:blipFill>
        <p:spPr>
          <a:xfrm>
            <a:off x="5715000" y="685800"/>
            <a:ext cx="297180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395000" y="2895480"/>
            <a:ext cx="621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Laws that were passed to keep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from having the same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ites w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094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717920" y="2743200"/>
            <a:ext cx="495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Jim Crow La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7" descr="C:\Users\ssanders\Desktop\Jeopardy\jimcrowexample.jpg"/>
          <p:cNvPicPr/>
          <p:nvPr/>
        </p:nvPicPr>
        <p:blipFill>
          <a:blip r:embed="rId1"/>
          <a:stretch/>
        </p:blipFill>
        <p:spPr>
          <a:xfrm>
            <a:off x="2971800" y="3809880"/>
            <a:ext cx="3809880" cy="25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Teacher</cp:lastModifiedBy>
  <dcterms:modified xsi:type="dcterms:W3CDTF">2010-08-10T00:56:56Z</dcterms:modified>
  <cp:revision>109</cp:revision>
  <dc:subject/>
  <dc:title>Blank Jeopardy</dc:title>
</cp:coreProperties>
</file>