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3AD-9F92-43B7-A17B-D1D9753D4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22E0-3F5A-4120-A507-4D0A98829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D02A-A6A1-4588-83D8-55000C950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D9AA-78A2-4770-96A2-6C2C17E44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DC9-103A-425C-9683-FA73E239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062-9DFB-486A-976B-FC7F7A05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E1846-D80F-4F1A-8198-300581D0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F3DEB-DF6F-4548-B49E-7EF8B788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51677-27B0-4B9E-BB87-080BDE32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B5EF2-C2C3-4CC5-90DA-915189B1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52E1C-5CC0-44E1-B362-7F91301D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68AD4-F207-4397-AB28-6772041F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DE4DC-6329-4DD2-9760-3E22C837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D51A0-E8AF-4892-8CFD-6E22421F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FDD3E-C647-46A1-98AD-5C443844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A9022-3342-4249-A423-0CC60D52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18D-90CF-4365-9580-C1CEF662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385FD-F687-4FE0-87DE-E3C95AE3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51B4B-B777-4F05-8C81-1987EA83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A6A56-9897-4906-92A0-0BE7B014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92A02-3083-4853-B558-5D339392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B91DF-310A-40D6-9DE1-0C8B0183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E825E-BB55-4940-A430-6F67DF6E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2A30D-0944-4CE0-8E8B-B7AB5A81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E4F9B-6953-4B7F-9BD8-3011434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4247C-BB94-4B1D-BC5A-C815D20E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48240-3EDF-43A4-8E30-0A3249B3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31A-46B2-49B6-98DC-4AFE31C7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C43F0-1BA3-4F9B-9DA5-2A31F6F4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FC280-CFB4-47BA-A0C6-51ACC247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CEA9C-1050-4B98-8E34-D81F6DB1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7FE78-C806-4106-AFB7-4210916B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FB494-074B-46E7-AED6-1E035DA7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B9034-845B-40D3-AB4C-54EAB506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5AEDF-A010-4215-BB38-4785635C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6343F-30B5-4EB4-A4ED-6F876784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A1CAB-9436-4B70-AD1D-58713736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EE1B6-9461-4DA9-A054-A3869D6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17C8-A478-4EF8-94C7-2873C875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C11C5-26B6-42F1-8F14-C115BC07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09D85-215F-4E45-BB45-EBE3BAD1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5C937-4B8F-40D7-8C9E-10B30592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A7083-1A08-4733-8382-96CF63A1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05BA4-544E-49BA-BDAC-A0E107BA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886E5-7A03-4863-90B3-6FE54C05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76F36-97B6-4F60-9B24-B217C923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88586-BA63-49BF-A671-144622AE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E8074-1C3B-408A-B3D8-AF8BDCE9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A4261-8E5D-4708-A3FD-C24F48F7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EA10-5440-4B7F-BC0D-B0B9A793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E708B-6470-4E3F-B284-2F81308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6C167-4932-47E9-ADA4-7DA4B7E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7635D-3FA7-4580-8F38-F8F81A53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8E4FF-1A73-402B-AC5F-0DB7A97C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E64D4-B6F8-4AC2-8905-8E48F407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622E-7F99-4E34-994B-4AA331D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ABD1-A7FF-4DB4-820E-60C2F666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5867-8B84-4302-AFEC-35B38F7F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E633-DD38-46F2-84C8-24C1ABEC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23A6-64F4-46DD-BAA9-47A1F08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70D-DCAF-4384-8E32-7FFCCCB8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1E7-0314-4D3F-8075-5BA98E3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29A3-9094-432A-9938-D756F49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F88A-B39C-4E39-A4FE-81E3139B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87C9-6FEF-4B2D-A3D1-39D3C4B1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A3BB-0E3A-4393-A2AF-28094AAF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45D6-C5CA-465C-AC13-848F7460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7CFD-F467-4848-86BA-A80F74B5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24B7-0E9C-46A8-AB39-67FC2427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98DB-825C-4268-ACC2-3DE295C2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9AF8-C70E-4DC2-A850-961E80E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27B-F69D-4C51-85FB-C3DDAC55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9AB3-5193-4674-AB7A-2F51EA68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6C1E-6176-40C0-B4B3-3D60A13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F8BB-A9AE-482C-8C4A-2E29708B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BF92-C4A3-48C2-A3DC-AD7EA700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987F8-3807-4195-9753-626DAD74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4301-D207-4C49-B7F0-3ED9F8B4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864D-1E16-40F6-84CE-4E03E8A2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C56FA-996F-41DA-9FF1-6BADA263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161B-E67F-4993-A664-C2858EB3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FF0D6-1CF5-4B8A-9B22-F7EBED18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79D-2FA3-4A66-A67F-E4B80A71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F9A35-AA72-4FB8-801A-61832005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08B70-83C1-426A-9A7F-08F0E0F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04AEB-7B14-4914-A0DD-6F273EDC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2C750-057A-4DA1-8623-44F687C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90B0-0AFD-4357-A8A7-D239F7F4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99BD-7901-464D-8433-8192FCC6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7014-8F44-4475-8021-73CA6C9A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77305-A4DD-4677-A431-17D2B0AA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6D495-6ED1-40CF-8867-191C265F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0B7A-BD68-41B1-8428-0752944E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DBB-E0D2-4B9F-84D8-D0988F21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D7A4-658D-441E-9C82-2BEF60E8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070C4-B917-466B-B0C2-02B303E2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48D44-8D8A-4788-97EA-05953608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EF8E7-5842-4185-BCD0-21EAB489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D22EA-5D0B-49B9-8460-E0FCDE78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B0D0-61F5-4B47-938B-96B8FA04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31E27-45EB-4C80-B56A-0AAF00A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311CE-DFB0-452B-B097-2984E0CE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3027-6B62-4EF8-BC51-BC524681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6C631-D639-4E90-B007-672841D3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A68-AAC2-499E-A6C6-0316C37F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570E-CB02-42B3-9FFD-7A91F141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C9416-3110-482C-B35F-5EE1579B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9255C-1B7E-4868-A9C0-3FA1E9B5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8BAEA-B9D8-42AD-99D0-738C4EA0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CC41D-DBF4-46BD-BC0A-CE97255A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1D903-8C07-4E0A-8421-211D434B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4C1C-EAC9-46A7-9BE8-0D93DEEE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76B6E-3606-426E-B31A-EE7406B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1E99A-A0A0-41B0-AAF1-830599B0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8B33C-486F-415A-A1C9-4DF84DE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5AF-66EF-4431-A444-CA8FB18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1808F-F0EA-4AFD-914A-9CC8C2AE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DE656-ADEF-4A47-AFEC-3AA15869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B74E7-52EF-47AF-9F45-33FBFCB2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4BFD-A19D-45B6-BE25-DBAD387D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E9D37-1E30-43A3-BC98-79C144F1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EAD37-CFDB-4345-B162-52506B0A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24F2-9668-43B2-8420-D1147C56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C249-1477-4CD9-8CB9-7836FF00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359FD-7A6B-431C-84D5-A22AEE37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B1F92-6F8B-417A-A607-C62757BC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122-8DC3-40C2-9ED0-71A02557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957E-91F7-46EF-B36F-FE4CDDD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81049-50F2-49CC-9A62-C07FB90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AA07-E2B7-4F8A-B957-0975644C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A8D37-1CB8-4C3C-B973-5DB03699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195BC-3EDD-4596-A4B4-0C693A6E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0903F-32AE-4125-ACFE-52C03FAA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867CF-E72F-44DD-946B-8D8DF39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4911-5285-40A2-ADB0-6448A50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E672-1ED7-4A37-8084-CF847A7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A6997-41C7-4696-8FE2-03A54B7B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307-1414-4CFB-A374-5B0391B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688B2-DFF2-40E7-B307-7314EE85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0A481-7D4F-4079-B8E8-EC0338A9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908FA-346E-4D4A-A57C-4A4557A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C061-42F8-4ED8-8D49-5E2F55E8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21961-1781-44C6-B078-0DDCDA8D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2D73-6B65-4D6F-91B6-61E0D737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9EC7-FE99-414B-AC33-D8D69BD3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71CC2-3476-4C7F-A5BE-8DAE3D4D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EAFCE-EA24-460C-8C1C-C4E84432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1DE6C-7CDC-44C7-8C63-8635BE0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DC0E-9DE7-4996-8719-7CD3A3D83F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E27D-2692-4500-A65A-5EC165268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B220-6E4A-4052-AE2D-9F95FE511F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04DA-37A1-4D76-98AD-7EFD852C4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6574-8FCA-4EEA-86F5-8C0C6C960A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A72-B790-485D-B9AD-7F0CDB117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F026-09FC-45A1-9A32-E24358AE38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D882-6AB7-4105-B1AA-82C5551C8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96B1-C7A9-42A9-A71F-9F5C439ADF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6713-D9F0-4498-B7F6-41701EEA2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D4D8-0EAC-4412-80C6-22F5937D15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BDEC-6B10-4AC2-BE97-EB3C8B9C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751A-8081-4665-AA12-62FA603BE4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5E41-7F20-4438-8ED5-3261F2AA0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4D99-A6DD-4418-A21A-4A29C37977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D3DE-5C1D-45F8-87C3-83265E36D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A539-5961-41F3-8813-18E55266D5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0BC1-CDFD-4D44-83B5-A22106CC3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F37-C8C3-4CBB-8834-DE023434BB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B984-A724-4BC6-921E-177B6BEC5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5088-E44C-4654-8385-D9AF459C162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41D-A673-4BD4-B316-FB2A6D4DD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8D56-832E-4F09-8CCD-A2CB110F1E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F96A-97ED-4646-BDFC-C9B2115AB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image" Target="../media/image1.png"/><Relationship Id="rId3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2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Jeopordy Theme.wav" descr=""/>
          <p:cNvPicPr/>
          <p:nvPr/>
        </p:nvPicPr>
        <p:blipFill>
          <a:blip r:embed="rId3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9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085040" y="1752480"/>
            <a:ext cx="725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ve African American 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to vo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Jeopordy Theme.wav" descr=""/>
          <p:cNvPicPr/>
          <p:nvPr/>
        </p:nvPicPr>
        <p:blipFill>
          <a:blip r:embed="rId1"/>
          <a:stretch/>
        </p:blipFill>
        <p:spPr>
          <a:xfrm>
            <a:off x="4572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2094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35240" y="365760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7" descr="C:\Users\ssanders\Desktop\Jeopardy\images-3.jpg"/>
          <p:cNvPicPr/>
          <p:nvPr/>
        </p:nvPicPr>
        <p:blipFill>
          <a:blip r:embed="rId1"/>
          <a:stretch/>
        </p:blipFill>
        <p:spPr>
          <a:xfrm>
            <a:off x="4724280" y="304920"/>
            <a:ext cx="3353040" cy="32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58040" y="3124080"/>
            <a:ext cx="68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ich President made it a law that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were free from slave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2094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764000" y="3429000"/>
            <a:ext cx="57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braham Lincol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C:\Users\ssanders\Desktop\Jeopardy\images-4.jpg"/>
          <p:cNvPicPr/>
          <p:nvPr/>
        </p:nvPicPr>
        <p:blipFill>
          <a:blip r:embed="rId1"/>
          <a:stretch/>
        </p:blipFill>
        <p:spPr>
          <a:xfrm>
            <a:off x="3429000" y="762120"/>
            <a:ext cx="2371680" cy="26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889920" y="3200400"/>
            <a:ext cx="663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o was the Af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who gave speeches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, gav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od to soldiers, and traveled around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the tru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Jeopordy Theme.wav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094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686600" y="3581280"/>
            <a:ext cx="48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ojourner Tru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7" descr="C:\Users\ssanders\Desktop\Jeopardy\images-5.jpg"/>
          <p:cNvPicPr/>
          <p:nvPr/>
        </p:nvPicPr>
        <p:blipFill>
          <a:blip r:embed="rId1"/>
          <a:stretch/>
        </p:blipFill>
        <p:spPr>
          <a:xfrm>
            <a:off x="3352680" y="533520"/>
            <a:ext cx="2124360" cy="30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895320" y="3124080"/>
            <a:ext cx="745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ich African American traveled over 500 miles to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mpton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he wanted to be able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Jeopordy Theme.wav" descr=""/>
          <p:cNvPicPr/>
          <p:nvPr/>
        </p:nvPicPr>
        <p:blipFill>
          <a:blip r:embed="rId1"/>
          <a:stretch/>
        </p:blipFill>
        <p:spPr>
          <a:xfrm>
            <a:off x="4495680" y="4800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2094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-27360" y="350532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ooker T. Washingt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7" descr="C:\Users\ssanders\Desktop\Jeopardy\images-6.jpg"/>
          <p:cNvPicPr/>
          <p:nvPr/>
        </p:nvPicPr>
        <p:blipFill>
          <a:blip r:embed="rId1"/>
          <a:stretch/>
        </p:blipFill>
        <p:spPr>
          <a:xfrm>
            <a:off x="3962520" y="304920"/>
            <a:ext cx="2238120" cy="331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80880" y="1447920"/>
            <a:ext cx="744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o wrote in a newspaper about freedom and was the first African American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n for public office in the United Stat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Jeopordy Theme.wav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2094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2122200" y="335268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Ida B. W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085840" cy="26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27720" y="3124080"/>
            <a:ext cx="867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What is the important document that wa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787 as the basic rule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count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Jeopordy Theme.wav" descr=""/>
          <p:cNvPicPr/>
          <p:nvPr/>
        </p:nvPicPr>
        <p:blipFill>
          <a:blip r:embed="rId1"/>
          <a:stretch/>
        </p:blipFill>
        <p:spPr>
          <a:xfrm>
            <a:off x="41911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94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-990720" y="762120"/>
            <a:ext cx="1112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o was the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started a school for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s which later became a colle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elped President Roosevelt during the G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?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094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990720" y="236232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Mary McLeod Bethu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6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200320" cy="321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575640" y="3124080"/>
            <a:ext cx="87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are separated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given equal rights it is called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Jeopordy Theme.wav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2094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609480" y="3657600"/>
            <a:ext cx="65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egregat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7" descr="C:\Users\ssanders\Desktop\Jeopardy\images-12.jpg"/>
          <p:cNvPicPr/>
          <p:nvPr/>
        </p:nvPicPr>
        <p:blipFill>
          <a:blip r:embed="rId1"/>
          <a:stretch/>
        </p:blipFill>
        <p:spPr>
          <a:xfrm>
            <a:off x="2819520" y="685800"/>
            <a:ext cx="2733480" cy="296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-38160" y="2743200"/>
            <a:ext cx="585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An amendment i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Jeopordy Theme.wav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2094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452880" y="3505320"/>
            <a:ext cx="637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n addition or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7" descr=""/>
          <p:cNvPicPr/>
          <p:nvPr/>
        </p:nvPicPr>
        <p:blipFill>
          <a:blip r:embed="rId1"/>
          <a:stretch/>
        </p:blipFill>
        <p:spPr>
          <a:xfrm>
            <a:off x="2590920" y="0"/>
            <a:ext cx="428616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609480" y="20574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can’t see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o they really are. It is called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Jeopordy Theme.wav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094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914400" y="3200400"/>
            <a:ext cx="670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97920" y="3124080"/>
            <a:ext cx="431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Prejud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7" descr="C:\Users\ssanders\Desktop\Jeopardy\images-9.jpg"/>
          <p:cNvPicPr/>
          <p:nvPr/>
        </p:nvPicPr>
        <p:blipFill>
          <a:blip r:embed="rId1"/>
          <a:stretch/>
        </p:blipFill>
        <p:spPr>
          <a:xfrm>
            <a:off x="2743200" y="914400"/>
            <a:ext cx="3371760" cy="22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60240" y="914400"/>
            <a:ext cx="787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The Freedmen’s Bureau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rted after slaves were set free because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Jeopordy Theme.wav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2094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523880" y="12952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y helped blacks find jobs, homes, schools, family members, et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6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857760" cy="281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026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028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31"/>
          <p:cNvSpPr/>
          <p:nvPr/>
        </p:nvSpPr>
        <p:spPr>
          <a:xfrm>
            <a:off x="317520" y="320040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 Constit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8" descr="C:\Users\ssanders\Desktop\Jeopardy\images-10.jpg"/>
          <p:cNvPicPr/>
          <p:nvPr/>
        </p:nvPicPr>
        <p:blipFill>
          <a:blip r:embed="rId1"/>
          <a:stretch/>
        </p:blipFill>
        <p:spPr>
          <a:xfrm>
            <a:off x="4572000" y="0"/>
            <a:ext cx="3772080" cy="351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1135080" y="685800"/>
            <a:ext cx="762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a group of African Americans went into a segregated place of business to protest peace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Jeopordy Theme.wav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209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220720" y="4691160"/>
            <a:ext cx="27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“sit-in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8" descr="C:\Users\ssanders\Desktop\Jeopardy\CI010B.jpg"/>
          <p:cNvPicPr/>
          <p:nvPr/>
        </p:nvPicPr>
        <p:blipFill>
          <a:blip r:embed="rId1"/>
          <a:stretch/>
        </p:blipFill>
        <p:spPr>
          <a:xfrm>
            <a:off x="838080" y="457200"/>
            <a:ext cx="3810240" cy="37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80880" y="3048120"/>
            <a:ext cx="8483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 or False?  When Addy missed some worms, the overseer punished her by dropping the worms down her back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Jeopordy Theme.wav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2094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151640" y="34290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8" descr="C:\Users\ssanders\Desktop\Jeopardy\images-15.jpg"/>
          <p:cNvPicPr/>
          <p:nvPr/>
        </p:nvPicPr>
        <p:blipFill>
          <a:blip r:embed="rId1"/>
          <a:stretch/>
        </p:blipFill>
        <p:spPr>
          <a:xfrm>
            <a:off x="5257800" y="2133720"/>
            <a:ext cx="2314440" cy="214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898560" y="487692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43760" y="304812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y overheard her par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spering abou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Jeopordy Theme.wav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2094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779120" y="3200400"/>
            <a:ext cx="580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aping the plan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7" descr="C:\Users\ssanders\Desktop\Jeopardy\escape.jpg"/>
          <p:cNvPicPr/>
          <p:nvPr/>
        </p:nvPicPr>
        <p:blipFill>
          <a:blip r:embed="rId1"/>
          <a:stretch/>
        </p:blipFill>
        <p:spPr>
          <a:xfrm>
            <a:off x="6172200" y="304920"/>
            <a:ext cx="2436840" cy="30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477360" y="3276720"/>
            <a:ext cx="620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as Harriet cr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hurch bas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Jeopordy Theme.wav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094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65680" y="3429000"/>
            <a:ext cx="495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 uncle had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7" descr="C:\Users\ssanders\Desktop\Jeopardy\alone,black,and,white,depressed,girl,hair,sad-c12869d819b7ff5009a894d6b3bfc265_m.jpg"/>
          <p:cNvPicPr/>
          <p:nvPr/>
        </p:nvPicPr>
        <p:blipFill>
          <a:blip r:embed="rId1"/>
          <a:stretch/>
        </p:blipFill>
        <p:spPr>
          <a:xfrm>
            <a:off x="3429000" y="53352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8000" y="2743200"/>
            <a:ext cx="77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id Addy read at chur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New Year’s Ev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Jeopordy Theme.wav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2094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1817280" y="2895480"/>
            <a:ext cx="553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mancip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8" descr="C:\Users\ssanders\Desktop\Jeopardy\The_Emancipation_Proclamation.jpg"/>
          <p:cNvPicPr/>
          <p:nvPr/>
        </p:nvPicPr>
        <p:blipFill>
          <a:blip r:embed="rId1"/>
          <a:stretch/>
        </p:blipFill>
        <p:spPr>
          <a:xfrm>
            <a:off x="304920" y="304920"/>
            <a:ext cx="2404800" cy="327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06160" y="2362320"/>
            <a:ext cx="82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at were the first 10 Amendments to the Constitution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2094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274760" y="342900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re Momma and Ad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ing their money to bu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Jeopordy Theme.wav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094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738000" y="3809880"/>
            <a:ext cx="150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7" descr="C:\Users\ssanders\Desktop\Jeopardy\images-14.jpg"/>
          <p:cNvPicPr/>
          <p:nvPr/>
        </p:nvPicPr>
        <p:blipFill>
          <a:blip r:embed="rId1"/>
          <a:stretch/>
        </p:blipFill>
        <p:spPr>
          <a:xfrm>
            <a:off x="3962520" y="1143000"/>
            <a:ext cx="3238560" cy="3211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1089360" y="3505320"/>
            <a:ext cx="690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name for a sl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ster wa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Jeopordy Theme.wav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2094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47280" y="3276720"/>
            <a:ext cx="243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Ma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8" descr="C:\Users\ssanders\Desktop\Jeopardy\master_slave_mid.jpg"/>
          <p:cNvPicPr/>
          <p:nvPr/>
        </p:nvPicPr>
        <p:blipFill>
          <a:blip r:embed="rId1"/>
          <a:stretch/>
        </p:blipFill>
        <p:spPr>
          <a:xfrm>
            <a:off x="3809880" y="849240"/>
            <a:ext cx="3686400" cy="22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36600" y="1828800"/>
            <a:ext cx="8807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at woman was an ex-slave who, after escaping, returned at least 13 times to help slaves escape on the Underground Railroad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Jeopordy Theme.wav" descr=""/>
          <p:cNvPicPr/>
          <p:nvPr/>
        </p:nvPicPr>
        <p:blipFill>
          <a:blip r:embed="rId1"/>
          <a:stretch/>
        </p:blipFill>
        <p:spPr>
          <a:xfrm>
            <a:off x="4419720" y="4876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2094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922760" y="3276720"/>
            <a:ext cx="409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1"/>
          <a:stretch/>
        </p:blipFill>
        <p:spPr>
          <a:xfrm>
            <a:off x="380880" y="0"/>
            <a:ext cx="3048120" cy="34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1563120" y="297180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year did the Civil War start and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Jeopordy Theme.wav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32094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771280" y="3200400"/>
            <a:ext cx="282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61-18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1600200" y="0"/>
            <a:ext cx="5429160" cy="332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493640" y="2895480"/>
            <a:ext cx="55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 called when you protest by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or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Jeopordy Theme.wav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2094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483560" y="32004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The Montgomery Bus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7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290520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698840" y="3581280"/>
            <a:ext cx="426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ill of Righ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8" descr="C:\Users\ssanders\Desktop\Jeopardy\images-1.jpg"/>
          <p:cNvPicPr/>
          <p:nvPr/>
        </p:nvPicPr>
        <p:blipFill>
          <a:blip r:embed="rId1"/>
          <a:stretch/>
        </p:blipFill>
        <p:spPr>
          <a:xfrm>
            <a:off x="2514600" y="228600"/>
            <a:ext cx="3809880" cy="345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474840" y="1447920"/>
            <a:ext cx="8897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Rosa Parks, Martin Luther King Jr. and many other African Americans stood 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ir rights. They led what mov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Jeopordy Theme.wav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2094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630440" y="3581280"/>
            <a:ext cx="609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vil Rights Mov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7" descr="C:\Users\ssanders\Desktop\Jeopardy\51YYFA37PXL._SL500_AA240_.jpg"/>
          <p:cNvPicPr/>
          <p:nvPr/>
        </p:nvPicPr>
        <p:blipFill>
          <a:blip r:embed="rId1"/>
          <a:stretch/>
        </p:blipFill>
        <p:spPr>
          <a:xfrm>
            <a:off x="3505320" y="457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514800" y="2895480"/>
            <a:ext cx="7023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 g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aves their freed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094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63680" y="350532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8" descr="C:\Users\ssanders\Desktop\Jeopardy\images-2.jpg"/>
          <p:cNvPicPr/>
          <p:nvPr/>
        </p:nvPicPr>
        <p:blipFill>
          <a:blip r:embed="rId1"/>
          <a:stretch/>
        </p:blipFill>
        <p:spPr>
          <a:xfrm>
            <a:off x="5715000" y="685800"/>
            <a:ext cx="297180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395000" y="2895480"/>
            <a:ext cx="621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Laws that were passed to keep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from having the same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ites w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94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717920" y="2743200"/>
            <a:ext cx="495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Jim Crow La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C:\Users\ssanders\Desktop\Jeopardy\jimcrowexample.jpg"/>
          <p:cNvPicPr/>
          <p:nvPr/>
        </p:nvPicPr>
        <p:blipFill>
          <a:blip r:embed="rId1"/>
          <a:stretch/>
        </p:blipFill>
        <p:spPr>
          <a:xfrm>
            <a:off x="2971800" y="3809880"/>
            <a:ext cx="3809880" cy="25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10-08-10T00:56:56Z</dcterms:modified>
  <cp:revision>109</cp:revision>
  <dc:subject/>
  <dc:title>Blank Jeopardy</dc:title>
</cp:coreProperties>
</file>